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883AF-E364-4836-B46E-7DEF2AFE75B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C40DB-D497-4F86-8E5B-DCF5C1BE76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PlaceHolder 1"/>
          <p:cNvSpPr>
            <a:spLocks noGrp="1"/>
          </p:cNvSpPr>
          <p:nvPr>
            <p:ph type="sldImg"/>
          </p:nvPr>
        </p:nvSpPr>
        <p:spPr>
          <a:xfrm>
            <a:off x="985680" y="733320"/>
            <a:ext cx="4886640" cy="3665520"/>
          </a:xfrm>
          <a:prstGeom prst="rect">
            <a:avLst/>
          </a:prstGeom>
          <a:ln w="0">
            <a:noFill/>
          </a:ln>
        </p:spPr>
      </p:sp>
      <p:sp>
        <p:nvSpPr>
          <p:cNvPr id="662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802A5-B257-4BB0-8230-975F23807E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67D85-FAF0-4AAA-B157-36E5691A24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0" name="PlaceHolder 1"/>
          <p:cNvSpPr>
            <a:spLocks noGrp="1"/>
          </p:cNvSpPr>
          <p:nvPr>
            <p:ph type="sldImg"/>
          </p:nvPr>
        </p:nvSpPr>
        <p:spPr>
          <a:xfrm>
            <a:off x="985680" y="741240"/>
            <a:ext cx="4886640" cy="3665520"/>
          </a:xfrm>
          <a:prstGeom prst="rect">
            <a:avLst/>
          </a:prstGeom>
          <a:ln w="0">
            <a:noFill/>
          </a:ln>
        </p:spPr>
      </p:sp>
      <p:sp>
        <p:nvSpPr>
          <p:cNvPr id="6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90472-9B74-4EF5-80CE-142EF6C14E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1810B-6797-4C0C-8DC3-932A2BDE4A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4" name="PlaceHolder 1"/>
          <p:cNvSpPr>
            <a:spLocks noGrp="1"/>
          </p:cNvSpPr>
          <p:nvPr>
            <p:ph type="sldImg"/>
          </p:nvPr>
        </p:nvSpPr>
        <p:spPr>
          <a:xfrm>
            <a:off x="985680" y="741240"/>
            <a:ext cx="4886640" cy="3665520"/>
          </a:xfrm>
          <a:prstGeom prst="rect">
            <a:avLst/>
          </a:prstGeom>
          <a:ln w="0">
            <a:noFill/>
          </a:ln>
        </p:spPr>
      </p:sp>
      <p:sp>
        <p:nvSpPr>
          <p:cNvPr id="6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AE316-BE35-4B82-B5AF-5BE2838AAEA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16694-1FC7-466A-93D8-EED4EA462E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8" name="PlaceHolder 1"/>
          <p:cNvSpPr>
            <a:spLocks noGrp="1"/>
          </p:cNvSpPr>
          <p:nvPr>
            <p:ph type="sldImg"/>
          </p:nvPr>
        </p:nvSpPr>
        <p:spPr>
          <a:xfrm>
            <a:off x="985680" y="741240"/>
            <a:ext cx="4886640" cy="3665520"/>
          </a:xfrm>
          <a:prstGeom prst="rect">
            <a:avLst/>
          </a:prstGeom>
          <a:ln w="0">
            <a:noFill/>
          </a:ln>
        </p:spPr>
      </p:sp>
      <p:sp>
        <p:nvSpPr>
          <p:cNvPr id="6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2CECA-A28F-4C33-B885-F671430E75A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FD8C9-F2D3-4258-B0E0-058ED18BB4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2" name="PlaceHolder 1"/>
          <p:cNvSpPr>
            <a:spLocks noGrp="1"/>
          </p:cNvSpPr>
          <p:nvPr>
            <p:ph type="sldImg"/>
          </p:nvPr>
        </p:nvSpPr>
        <p:spPr>
          <a:xfrm>
            <a:off x="985680" y="741240"/>
            <a:ext cx="4886640" cy="3665520"/>
          </a:xfrm>
          <a:prstGeom prst="rect">
            <a:avLst/>
          </a:prstGeom>
          <a:ln w="0">
            <a:noFill/>
          </a:ln>
        </p:spPr>
      </p:sp>
      <p:sp>
        <p:nvSpPr>
          <p:cNvPr id="6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00628-1297-42C4-9138-73D7A1BC82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427C3-C6A8-4443-8659-8E38DE7E9B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6" name="PlaceHolder 1"/>
          <p:cNvSpPr>
            <a:spLocks noGrp="1"/>
          </p:cNvSpPr>
          <p:nvPr>
            <p:ph type="sldImg"/>
          </p:nvPr>
        </p:nvSpPr>
        <p:spPr>
          <a:xfrm>
            <a:off x="985680" y="741240"/>
            <a:ext cx="4886640" cy="3665520"/>
          </a:xfrm>
          <a:prstGeom prst="rect">
            <a:avLst/>
          </a:prstGeom>
          <a:ln w="0">
            <a:noFill/>
          </a:ln>
        </p:spPr>
      </p:sp>
      <p:sp>
        <p:nvSpPr>
          <p:cNvPr id="6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B5EA9-39AD-4A25-8419-EACD85FA8D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C8048-3378-4DF3-91AE-8C22889064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0" name="PlaceHolder 1"/>
          <p:cNvSpPr>
            <a:spLocks noGrp="1"/>
          </p:cNvSpPr>
          <p:nvPr>
            <p:ph type="sldImg"/>
          </p:nvPr>
        </p:nvSpPr>
        <p:spPr>
          <a:xfrm>
            <a:off x="985680" y="741240"/>
            <a:ext cx="4886640" cy="3665520"/>
          </a:xfrm>
          <a:prstGeom prst="rect">
            <a:avLst/>
          </a:prstGeom>
          <a:ln w="0">
            <a:noFill/>
          </a:ln>
        </p:spPr>
      </p:sp>
      <p:sp>
        <p:nvSpPr>
          <p:cNvPr id="6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96493-0B36-4605-B90B-A4DB673CB1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8BE1C-F6FF-4223-81E3-91C75CBE76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41240"/>
            <a:ext cx="4886640" cy="3665520"/>
          </a:xfrm>
          <a:prstGeom prst="rect">
            <a:avLst/>
          </a:prstGeom>
          <a:ln w="0">
            <a:noFill/>
          </a:ln>
        </p:spPr>
      </p:sp>
      <p:sp>
        <p:nvSpPr>
          <p:cNvPr id="6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6D8D5-4FD3-47B4-AB64-CA4DB2B610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1BAF3-01B0-4568-A771-34E1403573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8" name="PlaceHolder 1"/>
          <p:cNvSpPr>
            <a:spLocks noGrp="1"/>
          </p:cNvSpPr>
          <p:nvPr>
            <p:ph type="sldImg"/>
          </p:nvPr>
        </p:nvSpPr>
        <p:spPr>
          <a:xfrm>
            <a:off x="985680" y="741240"/>
            <a:ext cx="4886640" cy="3665520"/>
          </a:xfrm>
          <a:prstGeom prst="rect">
            <a:avLst/>
          </a:prstGeom>
          <a:ln w="0">
            <a:noFill/>
          </a:ln>
        </p:spPr>
      </p:sp>
      <p:sp>
        <p:nvSpPr>
          <p:cNvPr id="6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5322F-F871-4AF6-A621-1051DB513C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1BE59-CF1F-4B5A-AFCF-FC1A84B44A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2" name="PlaceHolder 1"/>
          <p:cNvSpPr>
            <a:spLocks noGrp="1"/>
          </p:cNvSpPr>
          <p:nvPr>
            <p:ph type="sldImg"/>
          </p:nvPr>
        </p:nvSpPr>
        <p:spPr>
          <a:xfrm>
            <a:off x="985680" y="741240"/>
            <a:ext cx="4886640" cy="3665520"/>
          </a:xfrm>
          <a:prstGeom prst="rect">
            <a:avLst/>
          </a:prstGeom>
          <a:ln w="0">
            <a:noFill/>
          </a:ln>
        </p:spPr>
      </p:sp>
      <p:sp>
        <p:nvSpPr>
          <p:cNvPr id="6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D42EF-0654-4635-97EA-C9E36AB238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68871-8DF0-44A1-AB83-39874D47AB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96" name="PlaceHolder 1"/>
          <p:cNvSpPr>
            <a:spLocks noGrp="1"/>
          </p:cNvSpPr>
          <p:nvPr>
            <p:ph type="sldImg"/>
          </p:nvPr>
        </p:nvSpPr>
        <p:spPr>
          <a:xfrm>
            <a:off x="985680" y="741240"/>
            <a:ext cx="4886640" cy="3665520"/>
          </a:xfrm>
          <a:prstGeom prst="rect">
            <a:avLst/>
          </a:prstGeom>
          <a:ln w="0">
            <a:noFill/>
          </a:ln>
        </p:spPr>
      </p:sp>
      <p:sp>
        <p:nvSpPr>
          <p:cNvPr id="6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D6EA9-1F2F-4108-A818-3B48E5950A4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05885-CD7A-4A2A-94DC-1E9CAD997A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8" name="PlaceHolder 1"/>
          <p:cNvSpPr>
            <a:spLocks noGrp="1"/>
          </p:cNvSpPr>
          <p:nvPr>
            <p:ph type="sldImg"/>
          </p:nvPr>
        </p:nvSpPr>
        <p:spPr>
          <a:xfrm>
            <a:off x="985680" y="741240"/>
            <a:ext cx="4886640" cy="3665520"/>
          </a:xfrm>
          <a:prstGeom prst="rect">
            <a:avLst/>
          </a:prstGeom>
          <a:ln w="0">
            <a:noFill/>
          </a:ln>
        </p:spPr>
      </p:sp>
      <p:sp>
        <p:nvSpPr>
          <p:cNvPr id="6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0C075-68E6-488C-B5BD-EA2E62A08D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B638F-934E-4B3E-91E5-FAFCBB6885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0" name="PlaceHolder 1"/>
          <p:cNvSpPr>
            <a:spLocks noGrp="1"/>
          </p:cNvSpPr>
          <p:nvPr>
            <p:ph type="sldImg"/>
          </p:nvPr>
        </p:nvSpPr>
        <p:spPr>
          <a:xfrm>
            <a:off x="985680" y="741240"/>
            <a:ext cx="4886640" cy="3665520"/>
          </a:xfrm>
          <a:prstGeom prst="rect">
            <a:avLst/>
          </a:prstGeom>
          <a:ln w="0">
            <a:noFill/>
          </a:ln>
        </p:spPr>
      </p:sp>
      <p:sp>
        <p:nvSpPr>
          <p:cNvPr id="6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376AC-1EC4-4B7C-95ED-0C4B87CB5C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05E99-BAB6-4DCF-B3E8-4E3CB548A9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4" name="PlaceHolder 1"/>
          <p:cNvSpPr>
            <a:spLocks noGrp="1"/>
          </p:cNvSpPr>
          <p:nvPr>
            <p:ph type="sldImg"/>
          </p:nvPr>
        </p:nvSpPr>
        <p:spPr>
          <a:xfrm>
            <a:off x="985680" y="741240"/>
            <a:ext cx="4886640" cy="3665520"/>
          </a:xfrm>
          <a:prstGeom prst="rect">
            <a:avLst/>
          </a:prstGeom>
          <a:ln w="0">
            <a:noFill/>
          </a:ln>
        </p:spPr>
      </p:sp>
      <p:sp>
        <p:nvSpPr>
          <p:cNvPr id="6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64D4E-ED7F-4D49-8578-BC29E9AEAF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AF9AA-3E28-4DB6-834F-0FE9B38A15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08" name="PlaceHolder 1"/>
          <p:cNvSpPr>
            <a:spLocks noGrp="1"/>
          </p:cNvSpPr>
          <p:nvPr>
            <p:ph type="sldImg"/>
          </p:nvPr>
        </p:nvSpPr>
        <p:spPr>
          <a:xfrm>
            <a:off x="985680" y="741240"/>
            <a:ext cx="4886640" cy="3665520"/>
          </a:xfrm>
          <a:prstGeom prst="rect">
            <a:avLst/>
          </a:prstGeom>
          <a:ln w="0">
            <a:noFill/>
          </a:ln>
        </p:spPr>
      </p:sp>
      <p:sp>
        <p:nvSpPr>
          <p:cNvPr id="6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8E5FA-EEDE-4926-AE89-8CC327E707A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A561D-25CE-4355-9E24-4F1954D852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2" name="PlaceHolder 1"/>
          <p:cNvSpPr>
            <a:spLocks noGrp="1"/>
          </p:cNvSpPr>
          <p:nvPr>
            <p:ph type="sldImg"/>
          </p:nvPr>
        </p:nvSpPr>
        <p:spPr>
          <a:xfrm>
            <a:off x="985680" y="741240"/>
            <a:ext cx="4886640" cy="3665520"/>
          </a:xfrm>
          <a:prstGeom prst="rect">
            <a:avLst/>
          </a:prstGeom>
          <a:ln w="0">
            <a:noFill/>
          </a:ln>
        </p:spPr>
      </p:sp>
      <p:sp>
        <p:nvSpPr>
          <p:cNvPr id="6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9DFC7-C5E0-4271-A3F8-B3CA0039F3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A6727-F69F-4414-B5FC-BE061A632D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6" name="PlaceHolder 1"/>
          <p:cNvSpPr>
            <a:spLocks noGrp="1"/>
          </p:cNvSpPr>
          <p:nvPr>
            <p:ph type="sldImg"/>
          </p:nvPr>
        </p:nvSpPr>
        <p:spPr>
          <a:xfrm>
            <a:off x="985680" y="741240"/>
            <a:ext cx="4886640" cy="3665520"/>
          </a:xfrm>
          <a:prstGeom prst="rect">
            <a:avLst/>
          </a:prstGeom>
          <a:ln w="0">
            <a:noFill/>
          </a:ln>
        </p:spPr>
      </p:sp>
      <p:sp>
        <p:nvSpPr>
          <p:cNvPr id="6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295ED-680B-4CD0-9A3B-325651DA89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E302A-04F1-4682-83DE-15339CD8CB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0" name="PlaceHolder 1"/>
          <p:cNvSpPr>
            <a:spLocks noGrp="1"/>
          </p:cNvSpPr>
          <p:nvPr>
            <p:ph type="sldImg"/>
          </p:nvPr>
        </p:nvSpPr>
        <p:spPr>
          <a:xfrm>
            <a:off x="985680" y="741240"/>
            <a:ext cx="4886640" cy="3665520"/>
          </a:xfrm>
          <a:prstGeom prst="rect">
            <a:avLst/>
          </a:prstGeom>
          <a:ln w="0">
            <a:noFill/>
          </a:ln>
        </p:spPr>
      </p:sp>
      <p:sp>
        <p:nvSpPr>
          <p:cNvPr id="6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3F049-C847-43B5-9336-A66BFB72F3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3" name="PlaceHolder 1"/>
          <p:cNvSpPr>
            <a:spLocks noGrp="1"/>
          </p:cNvSpPr>
          <p:nvPr>
            <p:ph type="sldImg"/>
          </p:nvPr>
        </p:nvSpPr>
        <p:spPr>
          <a:xfrm>
            <a:off x="985680" y="733320"/>
            <a:ext cx="4886640" cy="3665520"/>
          </a:xfrm>
          <a:prstGeom prst="rect">
            <a:avLst/>
          </a:prstGeom>
          <a:ln w="0">
            <a:noFill/>
          </a:ln>
        </p:spPr>
      </p:sp>
      <p:sp>
        <p:nvSpPr>
          <p:cNvPr id="672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E4D47-6A35-4BAF-A4F0-8BEBA486F1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9074F-046C-4B3E-BC4C-6DEF43ED11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2" name="PlaceHolder 1"/>
          <p:cNvSpPr>
            <a:spLocks noGrp="1"/>
          </p:cNvSpPr>
          <p:nvPr>
            <p:ph type="sldImg"/>
          </p:nvPr>
        </p:nvSpPr>
        <p:spPr>
          <a:xfrm>
            <a:off x="985680" y="741240"/>
            <a:ext cx="4886640" cy="3665520"/>
          </a:xfrm>
          <a:prstGeom prst="rect">
            <a:avLst/>
          </a:prstGeom>
          <a:ln w="0">
            <a:noFill/>
          </a:ln>
        </p:spPr>
      </p:sp>
      <p:sp>
        <p:nvSpPr>
          <p:cNvPr id="6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59A2D-D4EC-47FC-8F63-BD12887A01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5A5C6-922C-4255-8053-CCF4E49859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6" name="PlaceHolder 1"/>
          <p:cNvSpPr>
            <a:spLocks noGrp="1"/>
          </p:cNvSpPr>
          <p:nvPr>
            <p:ph type="sldImg"/>
          </p:nvPr>
        </p:nvSpPr>
        <p:spPr>
          <a:xfrm>
            <a:off x="985680" y="741240"/>
            <a:ext cx="4886640" cy="3665520"/>
          </a:xfrm>
          <a:prstGeom prst="rect">
            <a:avLst/>
          </a:prstGeom>
          <a:ln w="0">
            <a:noFill/>
          </a:ln>
        </p:spPr>
      </p:sp>
      <p:sp>
        <p:nvSpPr>
          <p:cNvPr id="6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A12D0-DB91-4A50-970D-6D592B7A93A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0F0B4-E45A-49BB-BE48-F79EB839D5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0" name="PlaceHolder 1"/>
          <p:cNvSpPr>
            <a:spLocks noGrp="1"/>
          </p:cNvSpPr>
          <p:nvPr>
            <p:ph type="sldImg"/>
          </p:nvPr>
        </p:nvSpPr>
        <p:spPr>
          <a:xfrm>
            <a:off x="985680" y="741240"/>
            <a:ext cx="4886640" cy="3665520"/>
          </a:xfrm>
          <a:prstGeom prst="rect">
            <a:avLst/>
          </a:prstGeom>
          <a:ln w="0">
            <a:noFill/>
          </a:ln>
        </p:spPr>
      </p:sp>
      <p:sp>
        <p:nvSpPr>
          <p:cNvPr id="6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4EA24-19E8-47A0-B3EA-75BD40EC65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B98C5-7224-4AB1-ADC5-0D953D7407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4" name="PlaceHolder 1"/>
          <p:cNvSpPr>
            <a:spLocks noGrp="1"/>
          </p:cNvSpPr>
          <p:nvPr>
            <p:ph type="sldImg"/>
          </p:nvPr>
        </p:nvSpPr>
        <p:spPr>
          <a:xfrm>
            <a:off x="985680" y="741240"/>
            <a:ext cx="4886640" cy="3665520"/>
          </a:xfrm>
          <a:prstGeom prst="rect">
            <a:avLst/>
          </a:prstGeom>
          <a:ln w="0">
            <a:noFill/>
          </a:ln>
        </p:spPr>
      </p:sp>
      <p:sp>
        <p:nvSpPr>
          <p:cNvPr id="6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02DD1-97AB-4683-8332-738B683D224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7171E-65E2-4E7D-AC84-BE91E63014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8" name="PlaceHolder 1"/>
          <p:cNvSpPr>
            <a:spLocks noGrp="1"/>
          </p:cNvSpPr>
          <p:nvPr>
            <p:ph type="sldImg"/>
          </p:nvPr>
        </p:nvSpPr>
        <p:spPr>
          <a:xfrm>
            <a:off x="985680" y="741240"/>
            <a:ext cx="4886640" cy="3665520"/>
          </a:xfrm>
          <a:prstGeom prst="rect">
            <a:avLst/>
          </a:prstGeom>
          <a:ln w="0">
            <a:noFill/>
          </a:ln>
        </p:spPr>
      </p:sp>
      <p:sp>
        <p:nvSpPr>
          <p:cNvPr id="6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64C3B-7420-4C45-A0A0-D9FF6DDB861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F1D47-0576-4A96-942C-19ED23FD7D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2" name="PlaceHolder 1"/>
          <p:cNvSpPr>
            <a:spLocks noGrp="1"/>
          </p:cNvSpPr>
          <p:nvPr>
            <p:ph type="sldImg"/>
          </p:nvPr>
        </p:nvSpPr>
        <p:spPr>
          <a:xfrm>
            <a:off x="985680" y="741240"/>
            <a:ext cx="4886640" cy="3665520"/>
          </a:xfrm>
          <a:prstGeom prst="rect">
            <a:avLst/>
          </a:prstGeom>
          <a:ln w="0">
            <a:noFill/>
          </a:ln>
        </p:spPr>
      </p:sp>
      <p:sp>
        <p:nvSpPr>
          <p:cNvPr id="6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A6D35-4D1D-44BD-A59B-B3A69FCEE7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160F0-56B6-4FE9-8A2F-5228B77E7D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6" name="PlaceHolder 1"/>
          <p:cNvSpPr>
            <a:spLocks noGrp="1"/>
          </p:cNvSpPr>
          <p:nvPr>
            <p:ph type="sldImg"/>
          </p:nvPr>
        </p:nvSpPr>
        <p:spPr>
          <a:xfrm>
            <a:off x="985680" y="741240"/>
            <a:ext cx="4886640" cy="3665520"/>
          </a:xfrm>
          <a:prstGeom prst="rect">
            <a:avLst/>
          </a:prstGeom>
          <a:ln w="0">
            <a:noFill/>
          </a:ln>
        </p:spPr>
      </p:sp>
      <p:sp>
        <p:nvSpPr>
          <p:cNvPr id="6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BD406-C060-43C6-A5AD-BA4E525E1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C1420A7-4505-4627-988E-A8E0A5EB2A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DB7BCEF-B5D8-4213-9B34-DA6A2E115082}"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DEC855F8-15A1-45F3-8056-BDEB68E9982E}"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96B1E46D-7931-43E5-8058-C6DCC9071DCC}"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2EE5132A-63E9-4C49-8698-72DA66BEB16A}"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CE2D2E5-5FE3-4EF2-A4FB-B3DABC4CEF26}"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D1742A9-B47E-48D4-9511-44F6689D6FF2}"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940B8CEB-25E1-4169-8DC3-71E147223E1F}"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DBC3968B-F378-4647-AC24-147C2DF38F97}"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530A9CB9-1751-43C8-B225-824815B0DFFC}"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9BB7ED02-9583-47DB-9C5C-F076F6BA6BC7}"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860F689A-CCB6-45C5-8EAD-880121E043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F375C13-1EF3-4085-A6B5-4F1EE854812E}"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84C13A40-20D0-4F30-AE3F-3DFC034747DF}"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7FFDC809-5466-458E-AD43-86D1BDBC3E9D}"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B9B0543D-21B8-4DE2-BCBD-9588E96E0AEA}"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BD3EF01C-1F1F-467F-B868-146CD1F0964D}"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E5BD32AE-A440-4268-BC29-C425857232AF}"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AB34E0F2-E0AB-4F83-817A-B17D5E42A255}"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F0DE6E86-9B3B-462B-901E-DA930A384D10}"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3146FD7-7D48-40A4-B3A4-FA8C499A68E2}"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98D535C-1771-4E04-ABCD-E18E5919E3F8}"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24F84024-D33D-42E8-B598-6B9B393304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7C2CFCA-662F-4C8C-944A-D1C559FB4CA0}"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13330233-51D3-4A7D-B788-3EA692368279}"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EEADED6B-E630-4745-BC39-E012904A773E}"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54910F70-122B-4F9E-A29A-4A05A1E266C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20952807-C90E-4FBC-A58B-B8D6FA1E6D45}"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0973202F-B7D9-4046-B10C-4F029DF0A447}"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D253B6BE-E7F2-4131-9BD5-3A75E4A60DF0}"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C606D718-CD1C-4DEB-9DB0-AB54119813BF}"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1433F74-C5B2-4BB9-9ABF-2A1FDAD378EC}"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2248BBB-D820-404C-B4E2-0A3C8097C0F1}"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0E164EB8-0C23-4D51-96E4-0964F9A0DC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54F902E-429B-46BA-B76F-DD33ECE6DFB4}"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7F0AE6F2-3D07-4625-98CB-3067671139C3}"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CD301992-5850-43DA-B0EA-28806B1EF878}"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74FAEBA6-A82D-416F-ACBB-D0DF5CCDA7EB}"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88F2151D-00F7-4F8E-8B0F-16DF7681ABB6}"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2E52123A-D82C-49F8-8E72-EA10DFC893FC}"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C1983E50-968A-4A68-BBB2-9D278ADC8D98}"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E2503AB4-D4A3-427B-94F9-92938709B19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63AD10BB-29D9-4FB2-9FD3-18A14584E49A}"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4F629018-7E47-4D0D-B7AA-7A45A7819BCF}"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AED676B2-75B9-49DF-AD6F-3DD83F380E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99244A6-272D-48AF-80C0-34BE850D737B}"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D3E8D8E-A733-420F-B16D-E4DF41CA6918}"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A9B8CA6-BFF1-4E62-9A01-0AEB1B75146B}"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5C4EEAED-3F6C-42BF-89E4-4869EBEA176E}"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B63FD0AE-6061-4416-B591-C2E0EF32954D}"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20F24DC5-9ADB-4D07-9DF8-F779B356AF05}"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7AE75B53-E27B-4F61-AAD1-7C63B189AB82}"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2DE3FA3-5829-42E4-8332-3062D7192BE2}"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AC820004-6F28-4172-BF18-EF681F7D893E}"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B200F7DA-E59A-48BF-858A-D62E9B49A05F}"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5AC574AD-33E9-4049-9611-3BD1554317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FE691E0-FC20-47F2-9F1A-0BB59F29AB06}"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430E7004-6C6F-4A5E-AAF5-AA3E541A018D}"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9F10ED86-4539-4F43-A8B0-F679C5EB7471}"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9FAE71D-C72E-41B1-8517-794FDFF46869}"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D51A1A0-4033-4635-B565-0BC881AF35B0}"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E47ABEBE-7E14-45A8-8E6A-5CE2730400EB}"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E0CBFBFF-7DE0-4E1A-A972-6F87B1B2A205}"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807333B2-31F3-49E7-B617-2B9FDBA7D1DE}"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CEACA079-3162-40B1-A412-0E4D10A7E5D0}"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6E9F97B6-5E9E-45B3-9394-97A015A8FD88}"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41B80218-D90E-4036-B7DE-AB2BFEFAB97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3F75105-078B-44B9-9EE5-15807892B1F0}"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D3D2018B-1F86-4F16-B12A-5994C8E9FE47}"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CB759AA9-4EDC-4D2A-9D42-09BFD1325AC9}"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16626D76-AE5D-4EFA-A9E7-6618445D7813}"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D3E463C-ACDE-4560-9D6D-E37293009726}"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8699EF80-8E0E-453F-82BC-894CDAE1B3FC}"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46ADD44-D609-4AC9-B7A6-5526A95BAA56}"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C1DCE3F1-416F-4009-9DCB-186EBC5A3B68}"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D6A263DD-1E40-4D9E-81FB-9CD00E6363D8}"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8E71AC0C-963E-4260-80DE-B9DAA6D7EA00}"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6AD03E2A-B33E-454E-BB93-3E1B8A4E70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882980D-895C-4521-A293-E9F68B1603DF}"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23675D2E-6EBC-48EE-B5DF-8A98BF8E0C09}"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EF39EB4F-951B-4BDD-80BF-C31981BCF8E1}"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0F1A27A-707E-427F-B67C-E272D990D804}"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F528B131-38F8-4BF8-A72B-EE92CCFB2CBA}"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4DAD6E68-616C-4FDD-8758-A024612271E2}"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5905355-110D-4731-871E-9DDCEDC197C3}"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1EB076B-4AA2-45C3-86A5-43B8D4760C20}"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E5305C26-0DC6-4F42-B90A-504111815FA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9AF1F95A-96B3-44F5-A12B-EB02D3C3C882}"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9B3A6747-D784-412B-BFFC-38EBA800DA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87B950E-074C-4881-9C23-AC10CD97B4D0}"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10A57279-D44E-4A5C-976B-0EAD1F7F120B}"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E23750B4-9FA1-4E26-9632-621EEC52BB4B}"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0398BDE-6A9B-482C-BD30-AC54D613D6C9}"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5FC4819C-6B23-40B2-942E-B8ADA6802E0A}"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9E60BA26-81F2-455D-B14F-1ADB00327C92}"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8A980C55-284C-40E7-8139-8BED54DEA0CB}"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5C29E511-D2C1-450B-ACFA-FC570DD87C8C}"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7147667-24C4-423A-8534-FC4EE5B6EF5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AD5A8FC-6F7D-4D51-ACF5-9C23A5E734A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5D4AB54-FFAA-4CCE-8A8D-469604D81A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3F30A2-A468-49FC-9D22-C0511DA92690}"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2F7424C1-F740-4460-8235-FAF32A857647}"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205E015F-6155-4005-A8FF-61FDF9095F01}"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7F226BEE-24FF-4520-952F-2878FEA557CC}"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823132DE-88E1-42D3-94F6-B7FF915C7673}"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AB6DAB9-40D7-419A-9EB5-CBA80A155C1C}"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927303C-12AB-49E7-A6A0-C1CF12BB64FB}"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C7EE1CC0-AE6C-40C4-AF94-B3FCA9313FF4}"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9AC38F64-EC09-4FA3-AABC-FB4836133CB0}"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3612D060-6B01-4BA0-9CF1-4A9CABD11F32}"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8468379E-67E2-4C95-8EF3-BC81EF87C4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07EB29F-5B20-4F64-BEF9-24336F4A1C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B8A7239-2AF5-4974-9819-A9028E83FD49}"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929B576-B751-4622-A855-FFB410B9ECF2}"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AA250AC-8EE8-4F2A-8763-B0C6EF3B8B66}"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C42220C8-0156-4F54-8FF3-0117AA7B67FE}"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EBB36B5D-4FDF-4FC0-95EB-CFB8523F70DC}"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164D0DA8-892D-40A8-AC3D-9FF57B968EF9}"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B665E1B-F2EC-4793-A8B4-14951F0EF732}"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F4839F1D-7064-4DE7-A768-88A5C9A4997F}"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1A0C3AF4-D15A-4861-9FCB-2EB5C9BDB0EA}"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3E17F9D1-DF27-4570-A474-BE269864032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16A8CB61-CC38-4B1E-A553-5CF5D4D7C8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B2F5EAD-E7DF-4F27-99E8-17E853C58C3E}"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91F57ADB-320D-419B-A978-7245369F7407}"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930B7B21-16E7-4FB1-9F17-67163818F7D6}"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80B6E7FB-1956-466B-AC53-67CF6B60D041}"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CD5D831-4839-42CE-BBA5-17AC85C08D8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FE111A72-ECFC-45FB-83DD-8D0F633630D4}"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63650002-A3F2-48F1-8C33-868A5EB10C6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76966C2E-AFE5-4110-A78D-F8C6C510E642}"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858930AA-66BB-48D0-A5B3-D94F9E82D66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7D7F1D7A-B5FE-476F-A39E-C28D08BAAAA0}"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EB9ECB18-183F-4766-BB37-F1FF2C47A1F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EDB7532-7BFA-42D5-B322-CEB84C392013}"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6F662AF0-C9FA-494F-83BA-79B4EFB3D47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15C75687-1313-47F0-B1C2-6B3AC357104B}"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2336B917-22EE-4F12-97BC-3B0DF91EA2A5}"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C828EA9-999A-43AC-BC80-D60E96BA4BA0}"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E0068EC-9A76-48E1-A7CF-4521EC4F6802}"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6275389-7082-4A7F-A1FC-15C65D125CC9}"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6FE8EE4D-3823-4D8D-959E-295EA3B98F31}"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D759E6FC-4D86-489B-BD2E-F9EDAB719E05}"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B0186CF0-48F1-44F7-AB0D-9C522889E026}"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C1FD571F-84BC-4D0B-A169-43C0C0CA87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6156A99-3CF6-4A59-AF1E-27BD438F282A}"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27955077-6853-4EF8-B7C1-FF0FD1AF0028}"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B0BF67A-8E21-414F-94FE-DD58AB81E3E5}"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C5C20445-A1FA-4EDC-822D-90223EA7B295}"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BBAA677A-460D-4067-80E8-7EADB8EDF3C1}"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07FE5E58-2233-4E35-ADAF-5012339602F8}"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1B8CC671-8FCF-48B1-A630-0F51CEA9A7D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24652B4A-9B50-4FAE-B6F1-C6E22EAE468A}"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1C48FFB4-743A-4C77-BB98-0B0023C0B22A}"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04EF57EF-F8DC-4432-82E9-140E4DB19F6A}"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2AE90DE4-0CE1-4D3B-8C9C-80CC1F98E2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F9597C5-0255-4F15-89A7-8784338DA5E6}"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78C5657D-A656-4DF8-8296-144684C36BC0}"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8CC05481-0E8F-4CAB-AE43-134030F04B82}"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B264289-812E-4CE8-AC20-6BAFC6F505C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663B7100-1B4E-48B3-A547-DD69DA7BAA8F}"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74E4E610-1DEC-4789-B06C-756A0664FFB7}"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125904E5-7F08-4138-97DA-F79F01256BAA}"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01EAB399-02CF-435B-97AF-80DA446AC55E}"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C00FC14-31BA-4482-8183-FF4F9DE5A743}"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E53BA176-D1D2-43E9-88AA-6F1B1BDC7200}"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C383CC7-B8BA-4B42-9C8B-A576B306F2E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375D51F-7536-4511-B449-2BC96FA46AC2}"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0BD2F37A-C195-4180-9252-CEC1FA5C009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EF9D0D2E-DF86-443A-B9D2-0CEFA0FEC93F}"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3378D389-A0D4-414F-AAF4-256CD981B157}"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2C2124DE-BAC9-4FD5-9AD3-466318A3F63A}"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685357F1-0979-4E38-9989-852B8F5B383E}"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1CF32F41-F417-472E-AB3A-586DC988A021}"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04114DB-DCA1-43A7-B5A9-35E0E6B72745}"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83368FED-E0FD-4802-9FEF-7D3C7ECF5116}"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3100C29E-2E82-49EA-80CE-517B482F282E}"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5B26D85-2CA3-4F01-AE56-BD57544490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53BF679-A3AE-4B20-850E-64695D78F60F}"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FB155D6-A311-4176-88E8-772A755845C8}"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329AC275-D38B-4C52-B2E7-BDD36B100EED}"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8B1EC389-BDDE-4F2C-9A33-A385AFD9500F}"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57F0B707-C7EC-4C52-A4FB-3A52BFA82D5A}"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7111894A-5EE9-4B0A-916B-662EC1EED00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A3DE3398-C3EF-4D4D-B93A-71B20786ABED}"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66CA0CBD-44BC-4566-A8BE-01728E93E29E}"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2CDFF40B-9017-4703-AFED-B46419505C4C}"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D3B8CFEB-9E1E-41D2-911D-F9950E47EAB9}"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A8BC0437-CAC3-4457-95BF-3042D1C7C3D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BD77A2B-F9CB-4047-96D9-46C14A6D9336}"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B456506A-E6F4-40A3-9D1F-C8DA20249716}"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BEAC065B-15A1-4B05-B7B7-6BE22BC66EEA}"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7553D2C-3CC8-4CEE-B197-8E2C0E48D367}"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DEFCC59-7B88-4C00-A50C-0894404DD544}"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47B4A6D7-813B-43EA-9037-F551E73943A2}"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4DED5FC0-37D7-4F70-A107-1ACA388EA74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7510416E-38F7-40E7-820D-527C16CF1E04}"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EAB7E733-F87F-48B5-A6E5-E4D0ADD80DDA}"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5029217B-1CF1-4A02-B259-2AE465EC8CD1}"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B834D2B7-3E4A-4372-B234-C1DEFD5860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ED8334D-8497-4E58-8B7C-B942C312F1F2}"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52CA597-3261-49D9-981E-1C1C0A8B1A1D}"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ADD13A93-8EC1-4472-88F9-85CF11C008FB}"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D1102865-3C6C-41F1-ACD9-087F427B4177}"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8DD269F8-29BA-4D7F-A894-AA41B9BC9D8B}"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96C52C3-A2B2-4DB1-AADC-B011A71F900C}"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2299CC0-23B4-46BF-BC87-00D018EAA9F2}"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2549C633-A03C-4251-A6B4-F39F9426917C}"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A0412047-062D-4FFF-BE02-B94949C6BEEF}"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751BA53F-B1BC-4DF3-8B0B-0F7C2184F408}"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2ED041AF-6CD0-4433-AD7B-D40C53440A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1AC5DF5-E8FD-4923-BFD0-CACC6EDE0032}"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4161EF75-C2F4-439E-A2C7-16BABBEA373A}"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CE64CDE5-F0F8-4CA6-8833-1A53CC83869D}"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8D396B82-AA5E-4263-9B2B-789C21F23094}"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1B561B20-7A51-402A-8CF2-48098A1703E7}"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C67EF0A8-BCA0-41DF-A802-37594A2C2C0D}"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D6EC653-89A1-4C7E-84AA-562470EC9BA3}"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A3E2AAF5-5B98-4FCE-89CD-A2F9ED8641B4}"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47E3F9A7-6B5F-4892-95CA-054ABEDBCB72}"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08C1312-1469-47F5-A7C6-3ACE5844625E}"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7915A683-C584-4B45-8395-6AE3D5A068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82E565-AFD7-476E-A282-8EF9853F6B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71E0AE3-8A17-424B-8AD0-E7BABD665047}"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E459D5C3-19E0-4C80-ABBF-85EC1985A0EA}"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BCDEAB3E-8249-4C72-A699-365264B23FA2}"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F988B812-F253-450F-A5FF-04099B3A7C05}"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C2E4E3EE-F0D4-4E71-94F9-4F77F2C520AB}"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F61A9BC8-1F3E-40A8-869E-5522B0A44851}"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DE6AD0A5-4262-4706-B619-CF39C133F91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132AB369-C123-4135-97FB-34D6C37224C0}"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7504D63-CD69-4D48-9E19-E48D54ADA0C5}"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6F1ACC0-7D54-4EBF-AB7F-F56A24408E63}"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262C2B6-1B6D-4F81-BEC5-8B9275618B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090987A-1A52-44E3-B939-C29A43DD1E80}"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194A388F-768E-4BFB-852F-C0568C96B26B}"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56C11D2E-470E-4825-811D-11D45CA4C326}"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A8D7EBCA-DF23-4514-AD29-6E80FCBF4607}"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4532ACF6-7C4D-445B-8704-211C167E3A93}"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4241052F-77BF-4023-BE11-E82FC1A1C1C2}"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DBFC4C7B-BA1F-4B42-9B55-009C1424E22E}"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5E26C065-F5E2-4CF8-960C-254FA883FCF9}"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5C2A18AC-43BC-40A4-A73E-7F7154A0C5B0}"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ABD7D0FA-4CEF-4BDC-A057-728EA5239984}"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80AC2CB-ED42-4CDA-86BF-F5C0B25D0F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565F1BF-23B5-4D7D-A2AC-CA99C284C4AA}"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4DD9019-1D7F-463F-841C-D36D49A9FFCE}"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3FD00708-19A3-488A-A41B-2277DE2F11AB}"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6A40407B-A724-4C7C-A627-2767850C64CB}"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9A4636E9-51EB-4569-B571-F928DF9DC970}"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0B4C865F-C5C6-422C-80E0-F5C58F1E3911}"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677967D6-A730-4DD9-B465-A82D6FEE5D7E}"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C22211F8-5466-4CAB-9993-648F21B86808}"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61EE38CC-560A-46EA-8C32-9D41468BA9A5}"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C5D8EFE3-77CF-4D78-B15A-B977C793B2A8}"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B5B1280E-7CA9-4EDF-8DF8-2CE5744854F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2848A83-F5D8-490E-9404-DC508BB06E54}"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604D27AA-784F-43CD-A5FF-E78EF5B18ECB}"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EDC6827C-E89E-4036-82C4-BCB83557B2EF}"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CBA84A5-A458-43B5-BED6-DF667A59E701}"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97F23783-0A15-458B-8B3F-8CC5AA9CBC7B}"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B08C826E-0BD5-452D-AB56-6289B49CCFF8}"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80FB11D8-9E42-4E10-8D7E-B7272977DA33}"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8E01211A-D1CF-4A19-BD04-0CD8E84849F2}"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347AD348-306C-47D1-9D8B-F9EA8BE3A64D}"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AFB5D546-871E-4B59-B313-F5ECD09893B9}"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0BE51F15-8EF0-444E-9AF4-6C4A3347C4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1CC4A87-E180-4479-9083-291D5A32AB9D}"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65763254-7BD5-408B-A1BB-C479DECEE2FD}"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9EFD6591-B2D1-45BA-8118-8DA7FC48FA09}"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1FE45654-3186-4555-9862-E3550D3AF295}"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AD3D446-5E30-4C72-AEDF-6573CB6F3E58}"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5C3F450B-8660-455A-971B-9E408A9115DD}"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B4597B6D-D719-4E71-BE25-19832BB5BA35}"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2ECB070B-1CC7-4348-9B90-032CDF596F33}"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8B595AC0-8A10-4153-A6D4-5478A09249BC}"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FAB31443-2758-4E2B-9B35-56AC177470A8}"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FDA3594E-FE26-4079-9969-9490DA7A4A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2073037-21E1-4A7D-B953-973CEAD1BDE2}"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AC82EAF0-E7A6-4EBE-B152-EC1ABEE67AA6}"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683E4F3-2EBE-4D3D-BA26-EBFCCAE927A5}"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8EF894AA-89F2-47AB-B60E-C8212536CB04}"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35253CDF-A45A-400D-B792-E6D99D7E3444}"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423FAA6B-D80E-443C-9B12-793FB5D714E6}"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0FA6F24-9439-4856-871B-6CACA3F78D29}"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169A62F5-6AA0-4B0B-BBCE-FC2B20DBFE4A}"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5757E35-7443-428A-A71E-264D357EF2EB}"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65F5D7E-EA7E-4CC2-BBAB-970930584E0F}"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C9937D70-1EC8-4179-9CA9-56FCA38AFD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048DD58-1C6A-4C33-B377-E99E54C9B36F}"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82C43F30-E4F6-47DF-8F77-AAD50BF02405}"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BE1B912F-1160-475F-AF10-DFD3D49FA343}"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0E384911-120B-4602-9094-6910A9EEABB7}"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4B7818B6-F03D-421C-AA1B-B71949FD460D}"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B329E35-F11F-43ED-8BDA-0FC366A36CDA}"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D5B749F3-DA5C-4D73-82B9-A4A05A3EBC5F}"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2D1EB4B1-04E7-498D-808B-EFE7C1C3C6AA}"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14B2EC6-DB21-4529-845E-BBAAAABCB1A7}"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FBA99A9A-FB4B-4025-94A0-BA5F9E833BEC}"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EC464747-F2DF-49B0-AF86-611B2E1D8C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85E4B74-5EB5-47A6-B40C-D0DF427821AD}"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107FA0C2-B8D3-43D5-ACC9-2F4C4D4B7EDC}"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955636E0-02A9-4ACA-A817-7B46066213E2}"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923C78B8-E633-4DDA-AE53-2466AD8E6D1D}"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B9712EA0-5C31-4879-9A6E-7E2B2F14DC28}"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35F02CA-D1EB-497D-B85B-FD35C69E08C6}"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69A9595-6F95-480F-8087-CB5E99C4922D}"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230CBFF-7EAB-49EB-847E-138735492248}"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64D69C80-C04C-4827-8784-695D046CBBD7}"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6C1ED492-8158-46F1-A0DA-5DEEB251D4CA}"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A3F2D5EB-5214-49FA-90EA-5CF085CD3E5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8FB6513-CFA8-471D-AF0C-A9211FC6950E}"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A12B10CB-179E-478A-80EF-78BF3B1C78F2}"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C521D8B-13DE-456C-8985-F665C78B33D6}"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BF8E2D3D-BB95-4968-9FBC-EDA441AB8EE6}"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853705CF-0EE2-49E6-AC1F-14FFF4C495AC}"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53387260-D9A5-48AD-B071-7D9E12C179DF}"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029510C7-0420-4FC8-A374-073EB09968D4}"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26294701-31AA-41B7-9B29-A17C96072CA6}"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8008CC84-0CD6-4139-92F3-4F9A32C32CDA}"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78C9D498-B5C8-4D1D-A9F7-5E92650F4CFA}"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320FE7B2-6509-4A1B-9CE7-8F80426057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24E2679-FD97-45C9-A493-F1BBB23D4A3C}"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0AC7845-D7AD-47ED-80C9-3D86C682D777}"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6409EF9-2C1A-4F04-AEE5-A2B6724E96BB}"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666D159A-7298-46B4-843D-84535D6E24C2}"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252BE404-B804-46F0-AD18-29756ACBA1E0}"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BF8DEE9B-7CC2-4119-A26F-14C771771FCE}"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E57308EC-2E20-4A76-BFB6-65386F2621D7}"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2760AD02-D110-4AD4-9B22-CCDC67F86BCD}"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C26EE942-3E73-453A-B131-8B0AA18C0507}"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7A98AE3-80FC-43ED-83BC-81ACE605ECC4}"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B4EEF3EF-AAF9-41EF-8832-A8172B2A1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652139-9497-4E6D-9C1E-3ABBF715B1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96CA3CB-9598-4580-81B4-020BB2CBB423}"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B01439E6-F3FD-4718-B45F-89256B70B9F1}"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2E3B524F-6C67-4360-8A4C-47A0AEE4525A}"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5E8E2022-73C5-4637-B84D-7DE1883F3CA2}"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D1A702C2-2196-4EA4-8548-045082990970}"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E2D06A5-B208-4C82-A017-F30CC69B7A84}"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E78792C6-4F1D-4725-A8F8-213C8B67731D}"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AFEE61F6-D6A5-4B24-97A1-F202B5C70ADE}"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571D1988-781A-41BC-8090-4F294255D121}"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1A4092E7-A43B-467C-AF48-558C1CEC9388}"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3C357895-1CA2-4D6A-960F-4422CB24A2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7C241A9-AE91-4B8A-A9B7-A1675C5A1085}"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1E454C89-F7C7-48A6-B9D1-EA439FC12AD5}"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51D08164-FB17-4AE5-8305-2C58F8A57757}"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446B569C-9CE4-4CAD-841D-43D60DDEBA5E}"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6DA83F64-571F-4A0F-ADA7-012C12168560}"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FF72684B-24E5-4284-B2E7-A471F7BAF5E4}"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EF09B41-3B62-47BA-A387-6E4C57DC0971}"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D23A264-56D2-4A90-804D-164FBAF471A5}"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DE9020A9-B407-4F9C-8D9D-D6477545B689}"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69B76329-C0DB-4950-98B2-14CBA212CAD2}"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2CCC1F1A-CE98-4B62-92A0-D80CA8E86C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1BD8F81-8CB1-45A5-854F-3D56E5BFCE55}"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E1BF0FEF-0487-4389-9F9B-D7ED1236E042}"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FE8FA00C-5FF6-4075-9A93-8FF1B1D5A946}"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F2A5A822-D4E7-4C58-97F9-5CF13F4BC509}"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95A054B0-B265-4AB4-982F-2D8280A72213}"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F27284B8-593A-4D11-AE8D-299AF9AD5190}"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31880BC0-5902-4069-880D-7399B42A4DAF}"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90B9C2D6-A4F3-465E-BD59-BA7621B014B5}"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3F094342-58DB-47E5-97FC-D174C79D26EF}"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3F2CD816-3C96-4948-A2B2-C58BD1B84F9C}"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80E4E3C5-BB4E-4FB4-A901-7ED7B41EACE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3AC35DA-30BE-413E-BDAC-C237D59BAA4A}"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5D13052A-3B42-464C-9C47-77DEB9564FDA}"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B3D0E95A-2665-481E-8FF6-F9B2A2B60C9F}"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57BC84F9-FFAA-4CDD-8BCA-F815D793C914}"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DC91B127-2292-4D0D-B957-B7C2AF6E4A5D}"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BA625E2-0732-41E5-A4EE-3F7A56752289}"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47EB2D6-4453-4C05-8481-CEE97F988B70}"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4EA09808-FC39-4605-9E82-A5B71FD421A4}"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35B50209-2FDE-4C13-957F-BAADE06ED0F9}"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D2821871-C2BF-4BEB-9688-6AE043A0919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CC7EE28-D1A5-44A2-85A7-FA2B17D9860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B58D024-569A-4042-8579-BBD76832FBA7}"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43ECA38-DCBE-4BB7-B00D-214DFB58B5A3}"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56267E98-363D-4E35-9E07-FE32CA97B772}"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3D9C9950-CA87-49C4-8996-07BD95206280}"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27C94AF8-A5EB-4360-A5D3-05E309A7E02E}"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53E1F26E-0613-4C1A-8E77-AF77B46208F0}"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F673C37A-62B0-493A-8676-13378893AC31}"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2BBF2845-AC64-4F75-A7ED-4C34A5D97349}"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D47EBE5A-6698-4FC3-ACF4-C7E7AC4C606C}"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4EFFFDF1-12CA-4FA1-A44C-FE6FA63EDE91}"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9999ED68-71F6-41EC-A6C2-C7D829668E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6C61CA-D780-4CA5-BF12-5F6DC3A9E7B6}"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A1771ABE-A6F8-47D8-96E0-328384A8B6A6}"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C75A792-0081-4C95-8154-43638442C18D}"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1DD3726E-F6DD-4AD4-9506-E05E1EDB5511}"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DBAEA377-9DB0-4B86-B4F9-76BE4B5703B5}"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9274D675-BC4B-4E38-B415-A0E3E26FE529}"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53D3C886-14AA-4007-BBE2-EDFCB7228E34}"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8F17A14D-679C-4F4F-BC20-B256640D1E4F}"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98BA0ED1-C185-4566-89BD-5722AECD623C}"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8640F4A-167E-4BBC-A962-B4C62861FF74}"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592E62CC-EDFD-455A-AB5B-C9F9FB8B47B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E77190F-D4F1-484C-ABEF-386592C9364A}"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7811FC10-9F95-44FE-B604-477710C9A072}"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5CBDB386-A733-40E2-BE6C-E1F3C353D3E9}"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8826B323-C5ED-453A-A21D-83C83C7D13CE}"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0057812E-6EF6-4082-B914-72883FDA762C}"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D69C121-CD2B-49BB-8A41-7AA91B5D12D2}"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8ABB822-FAEA-4417-8BA6-3FC5B92136F8}"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27D9B72B-B1A5-4C6C-B438-BC4ED5432235}"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D597398F-3182-463D-BFAE-40B8E2D51C7A}"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70B0C4B7-B94A-483F-B2C1-07CC652D8493}"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1FBDA837-F8EA-4A24-A3CD-3DBEDEE8B6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4CEA961-4D1C-417B-8BF4-794F521A1EDE}"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3B76A17-7EF6-40DA-9767-5710EB4E1CAC}"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E05B0D8A-006C-4482-B4A0-E8B66CBC3EB8}"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91E0E412-41A7-48AF-98BB-4A854AB1DFA5}"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3882E0A4-8F57-4731-91A1-ED395B261705}"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DF2AB880-C6A3-419D-974C-18E47BE9D6EE}"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092CCC3-CBAD-44D3-B666-126180A39852}"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D152AC3-DFC9-4A41-84CA-6EBD6E4DABB3}"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D4F3BF1-53D6-4781-9184-E29ED1FC121F}"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C074D8B-E617-4731-B83D-80A8FEB01CD2}"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4EB1755F-8D44-4309-8B03-F30FBFD4DC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CEB55825-5095-4004-BE30-20965EDD18AF}"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9818D62D-935D-4346-9BCF-2BD85B6AA925}"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042F265D-8807-4B31-B253-F85C565150B6}"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9F98AFDC-E2C6-4D6C-B473-EE4C22D023F4}"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B97DCB7E-2E43-4CC5-B7EB-29824A7F4047}"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CFFB808D-5233-4CD2-914F-62BD827873BF}"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60188CC1-7E5E-4F52-9BEC-B8B661EB188D}"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E6A2A5B1-BB88-45E2-B210-FDD11725F812}"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868F01B-BAD9-4E08-87CD-225C12401507}"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36DFFB4-3406-4660-8151-147B0538CCC6}"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B7AFA0C6-628F-408C-897B-4441F98B13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61AE3FF-D5CA-4A18-BE58-71A875A2FD0A}"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52F3E90B-38C9-4DA0-B985-BB3FA57EB889}"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77A6F110-0F65-43AE-9E84-5CFF6533D9D1}"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7D6514CA-D5B9-46D3-B324-F79DCCF63D9C}"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5AAA689D-57F7-4A9E-B403-B069C914A584}"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CE7C7972-BECE-409C-8727-8C052887DBFB}"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98EF4D51-7C05-4CA0-AB12-52F14FBB1E21}"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74BFFC36-2EFF-4D47-A167-FC7C108C1F10}"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719237DD-06AC-40AD-A738-4AA9E05F83BB}"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622108E-3EE3-4A5F-B9F7-4074580CC71D}"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A6F063E-5306-4BDE-B596-3774A43985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8065E0-11DD-4059-8DB4-CC20DA89024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45C48AB-2460-4182-B927-894E91F8D5E4}"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18AC183A-BC53-4856-A83D-104253FFF52E}"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ABE25E9-1DEA-4AD8-AF3E-C579BBF09F7B}"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DF213114-494B-4EF8-A432-A2AEDC39CD1A}"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7D97EC9A-236F-4AA4-A914-7A4AD01460A5}"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319801A1-3850-489D-89EE-E765386FC7AA}"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AA82DF04-E295-4385-9589-6E537EBB53AB}"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806346E8-D4A4-4AF6-BE90-3C00E3880DE4}"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8F64CFA2-CF46-4D8A-B3E3-81F1CA157C85}"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0D649E5-8B3A-47F9-BBF4-4094E541B07B}"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F88243F3-CD80-4742-AEAF-E94C5464AA4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A4F9BCA-42BA-4FC2-848F-9CA570EA036A}"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0ED4C7BD-627C-4A30-B9B9-3B6765A4A3B2}"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9A12506-9003-40A6-92ED-6BAB523242D3}"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8B05BAF-54F2-4418-B342-163FA8DE942E}"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2AD003C-F6A6-4807-8B7A-C4DE4A39CEC7}"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AD962F3-2FF6-4BCF-9ACE-50B06A24E552}"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2CB091B7-7940-491D-B247-DBD058FD1680}"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5E80D277-4D7D-473A-9139-16D55B3F9F31}"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A8A1CF02-5B04-4827-8750-18038D5A3A4E}"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B0D5665B-0B4E-4F2E-A4FE-DB3F4CB472D8}"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EFEA439F-B082-41AB-B4D1-239335FAE4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1B15CF3-28BF-47C5-AB4F-243D49FA6E21}"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474DB06-D2D3-495E-A11E-FB1688088ED5}"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F1FB4AB9-781D-4D75-9160-29EAE07CCEF9}"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DCEF908A-2EA7-4124-885D-5F6007F154AE}"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2DD4A04-E508-4FC2-B7AD-2B892C04FEFB}"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D5AD406-BC50-48BC-91E7-F610D493933E}"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3EC31849-FFC7-45D2-A957-C6C9692CE6A0}"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E4944A0-CD75-463C-84AC-963BB26F9E41}"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2386A572-C1AE-460E-A61B-C5A8ED2DA89A}"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3E1C40C0-5089-40C2-9A7A-8981D89721F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53DC00F2-5AF2-4999-8381-EFC1BEE702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A7BDB80-9572-4742-B4FB-1149A0BF9194}"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183D17C4-4756-4099-AE54-91CC1CC49C50}"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E665AD19-9CC2-46C4-A65F-50E5D994B870}"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070CD988-B17E-40CD-9E5E-3D6A6A2AC4B4}"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5FA56EE1-DFFC-43A1-85B9-FBE4B786F308}"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AC2B1713-0A54-4E34-A54B-847518412DEF}"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83A41561-9D48-48E7-BB29-3B3A4854601A}"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B527914E-D652-4E20-99E3-E533DDBF731C}"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6DED75E-7F10-4668-87E2-B6EBDF077F2C}"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31924AD8-C4F2-4681-8CA7-B0D8894B4AB0}"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38FA9FE7-FCDC-41EF-9154-37ADF68FCD2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23109E5-49BC-4E64-A7A6-005B3A107A45}"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EEFD967C-3FB0-4CF5-903F-A0E2579FBD6F}"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5F113695-0E2D-43BF-967E-5539FE187762}"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10E77902-071D-4997-9B0E-9BA32983D00A}"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520C630C-0408-4875-B6BA-DB076E65F8BA}"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D4F5B57F-B126-4A45-BAFF-8AA79AFBEA9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D8A07B0E-E5BF-4B39-9026-4C12118D8A42}"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8AD3973D-8497-4C3E-91B9-29550FB79398}"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580C122-B99D-4E89-ACE0-C819A5A2EF32}"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8B4C286A-F991-4997-B0AB-88F425A5C417}"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0BC2F21-3982-4AD0-9194-8E61F2F9E57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1C2D907-8B39-4BD3-B6C3-ED7C6167D11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7D574995-358F-464E-93A7-70BB609AE652}"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0939F68A-604A-41A9-8F34-28D80614FBA2}"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5C1FC352-048E-4FC3-A7FB-C5E7ECB83532}"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DDC1F3A2-77B6-4128-A140-7B5EF2D52ECB}"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22104D0-3EF3-42B6-BE20-BE99E550196E}"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1EEBC91F-4537-4B13-8B01-5574CEB0ED4E}"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19DFF194-5533-4119-A995-21244757E4F5}"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19B98ACC-3B86-4C6A-9236-0B5EAC4CBD4A}"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78822EE3-7841-49D1-B578-F4BE05160A6C}"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BE09A9F6-DEE7-4B9E-A31A-6065F161B3B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07F4D0E-8058-4694-AA99-BF8B4118E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34AB5461-233D-46C1-9132-E5FF94CE44BF}"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942245C-1BDB-487C-8CA1-3566224C5756}"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C975F973-0D0C-4424-8CAC-6F58E601A570}"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A31D1014-CDFA-4EA0-9F4F-5E9B31BA51D1}"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A607FEF1-56C6-489E-B9CB-3E760A51C31F}"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6DDB96A2-E617-4726-B855-7B1549541576}"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D889F75C-E177-43C4-A639-9DCB66711C6E}"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69DFF83D-8688-4E51-A9D5-DCE88ED87004}"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9A71EEC9-066D-4AD7-AF08-9FFAAAAFA652}"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79E9A65B-8CFA-46BF-8318-518FA869EFE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BADC05D-9C98-4A64-B970-E1023E10A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F291C6E5-3905-4AF3-9406-BC772735FB25}"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09569E9-7E49-4191-AEB5-C0151179FEDE}"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24D7A63B-A2A4-4A4C-9921-831D6888C5DF}"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10708CA1-9079-470C-BA06-7EAF9C1A1092}"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28350C11-7A12-4356-89A2-DFF935D0E17F}"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B8A6FA45-62DE-42A1-AA70-7D8FE941EDB9}"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9C858608-A6EB-4AA1-99B7-CDF100EC4BA7}"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8464A3A5-DE71-4097-80BB-23BD40B5EAAB}"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D50C6239-AEA2-4550-BF4B-BC6CA18DE71F}"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B066319-BC94-42C4-B248-3C2B354EDF3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B0E92EA-3B47-4E37-94F0-AF58BB8B2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745932D-63DC-4309-ADEF-F3E9EAE019EC}"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D07AD4D7-B797-457B-98F1-641B8438EEDE}"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D96DA851-78BB-43CB-BED9-DFB3AF369211}"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AB85971A-315D-4F5C-9DBD-13E10E0BCBD3}"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7D1C15AC-AAA3-41B6-A629-1339B0979FEF}"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AD2E206F-316B-4D8D-BD0C-A1D2399CF944}"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3AA6063A-394E-49DD-96AF-EF99FDEAA5F3}"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C0E60191-C8AE-4BDC-B724-FCBA3694C694}"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E434275D-110C-40A3-B37E-D405C13367F5}"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EC396F15-907E-4E96-8921-D2698B30ADD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A691F6C-54E4-4CBA-99FC-BD9AD0294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F0C2698-2857-458A-8AE2-6454064FEF14}"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A0FB2CFE-A646-4505-93E8-FAEA482EED1F}"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EB3D8E4D-5EC0-4344-831E-87701F835DFF}"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E9D99DD8-02AF-4044-B2FC-9F1FAF856898}"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9A558A3C-EF4E-4B78-977B-B9657F86DC63}"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FFC9704B-E155-4B26-868F-DB057AEB4BEA}"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0C478EE9-7280-415E-881B-7B0F4C5BA581}"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E94B4C3D-EDDF-4DBC-B7F2-27820F298458}"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ADAB76A8-81F0-4605-90A4-345D4782E19E}"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0B28DDE2-A4F0-4A4A-9CDA-7A6DDE5097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DCC1354-CCB3-43B1-90B1-8069C2B8074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6DA14B1-A5F7-4E48-894D-AB40AC1E3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1A9F36A7-767C-4714-9EAA-974DFA44FF87}"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2C4A95EA-FE04-4965-911B-02EDECE6C8B4}"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E41EF47-A599-4D21-B7E6-9CEE9BAE586E}"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C159546A-DCBA-4681-8F25-88B9AFF974D9}"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E4E1DA97-3254-4E7F-A544-C24FE5432864}"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68CEC0C8-65A2-4E90-9E01-C82FA4D4C788}"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A5AD3DB2-D29A-42F4-971D-023EE0BB835E}"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064808A-6BB8-4A52-810D-44241EDA5EF0}"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CAF65F9C-B17F-4A1E-8F0B-B68308171E49}"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42C5051-A27D-457E-9877-D15D7E3FF34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5432FA6-A528-44EF-B222-7851A66B8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2D6CB71-EE68-4DE8-B2C7-2392CBCEADA0}"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172798C8-88BA-4AD5-BC94-918FD86A1026}"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24666F05-104E-47EF-A823-D17A3894BF4E}"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218826D6-5D01-4C8A-BB9B-A78E1CCCBD57}"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BF972EEC-67BF-40EE-8BCB-403DBEABC159}"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8523AD8-D4FC-4B34-8C1F-EAF5BFC23D05}"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440278DD-48CE-4DBA-A578-14FF37E5A3A6}"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8B8CB195-02B8-4A86-A15F-D7B7F67D854A}"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75B1E87E-930F-4794-BAF1-78766A02CFCA}"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FD00B44-35A5-410B-9EC9-F86D8F44216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C47F375-076A-4028-BC2C-1C6DF7358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AB5823A8-BD6B-48AE-9E5D-868E4FD454BB}"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C0DD35B-49EE-41C7-AC76-6E5E4BC80D7D}"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76786053-4CC5-434D-BC9C-F8DF2C9F202F}"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ECDF9674-9616-4FEB-8631-F7C6396857C1}"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26CD741F-2E5F-4561-A9E0-E2AE54CC233B}"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F9475AE5-1CA1-411C-AB16-C6BA1DC8A1E9}"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7352B1D-EC96-4A60-9FAC-407F3C8C3E87}"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60E32F13-2444-4A9D-A286-FF81AE8FB353}"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377E87A4-C2FA-4051-AA72-85FB64827798}"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681B9E6D-0DA6-4550-B9A2-2BBDF8861F3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6A093D4-C5F8-4B5C-8A4B-43100C211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73EF2491-A0B6-4B05-9059-E2C69AB745B3}"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D3F243F-C1FB-4A48-8FEC-870A331A4AE1}"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0D6FD33-B700-4B31-9F5E-A8181E71E06D}"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0CA32968-B3FB-4EF6-A96C-615BD06CBA45}"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42BE5F22-CBC7-46B8-91B5-D15EB6BD45FC}"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5E98F338-6BBB-4F0F-8E94-C03B43249A2D}"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FCC7138E-3F88-4BE0-AB87-180D6A8AE5FC}"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28B25617-2A2F-4E44-89A3-09B9C0FBAE9C}"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4541FA22-B145-4F5A-A060-3D48F26AA754}"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61F9EB6B-B2B2-407F-A5B5-A1338ACBBA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110BEFB-4D2D-4D84-8B38-5FB286A35C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BA3944CF-7DD8-4E49-BCF0-F1875A98F595}"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F0F52E55-D9B4-4C9C-9F1C-7DB25C846866}"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B23EA604-60A7-4946-8D78-FF9FF2F40B09}"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9BB7235-0058-4ECF-9A22-60B41DFB5827}"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37CCA97D-E0C5-47F0-8252-7963D398DF29}"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FD927D7D-E699-439A-BA17-734270B70B4C}"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504DD3C8-63C7-48BD-8F5E-D5A8E89C0475}"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2CE1A680-1DF5-49FA-9615-1FAD94DF5E79}"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8A7ED1DD-C3FC-45C5-A111-CC82C13D6A0A}"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73C0EE00-291F-403E-B21E-C1E576CAC8C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43F1097-CAC7-4149-B096-2226089DA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9736627-7831-4851-B515-46BE336FE782}"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B6059E7A-14D6-4876-9D5B-71BCE3105C6B}"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3D52A536-2364-4FCE-AC6C-3E9220ECFF7C}"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5EC8F310-8053-437A-9EB7-CD37193A14D8}"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E279BE0C-3E97-4F86-84F9-A2FBF4E0D2CB}"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82523EE-14D9-4AC1-8011-CC33801FFD3E}"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015C8BB-9FFA-4BEA-B38E-EC302470B927}"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E1F335E3-97EC-4D63-A4BA-20705569C33E}"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E3EC27EA-3B0B-4373-80CF-21A656F7CC77}"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7563AC79-3158-4E36-8381-A773B747C32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5E161A9-79FB-461A-90C5-335238D9621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6277BAEA-E5F5-4F02-893C-747052756B74}"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2BC1E03C-3430-4123-9340-866887D34DFD}"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038E6AD1-E777-4ACA-92D4-AFD2C75A8305}"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F09B1E2A-3084-4B64-9C68-4096AD7D3B37}"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E37D945-E2CC-4E89-8658-E815DE965852}"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DD6893F0-31CA-4482-B462-9641A16784EE}"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DD4C824D-C4E2-4B6F-871C-9D1F823B8564}"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8D10564-1EB1-4757-BF1D-481BCAA69DB5}"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73D5656-3C74-451E-B243-993A9E12B163}"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B661211-F945-4D07-85A3-6A12EC3F0FE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8CD1C6E-C10E-49CA-984D-ACFA558B85AF}"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C10DFC67-551A-4EA2-9F1E-2D215AB01967}"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2E03EF81-315D-4CE3-86BF-5E1AE89FEF1B}"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67E0BF35-3E98-46F1-B8B1-351364EF0C85}"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C9C8A9E5-C12A-4E64-B873-92A5AF94E272}"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D477AB19-915E-4FEE-8A03-069F48008FBA}"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7AD8BA4-074B-4375-865A-3484C1F7AB71}"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069EED43-281F-4BD5-8B02-927A4B044ED3}"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CBBDDF9A-7E0E-404E-9474-A8E4FF1BBD9A}"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122239D6-742E-4818-B7E7-E306E1D1BC96}"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0BF5C21-BDF2-4D4D-A9FF-B962655164E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16C1D6D2-FF3B-46C1-9B03-891B063B000B}"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4BEBCAD9-EE17-4215-B511-5E5CE2D38CD7}"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A461D9A8-A70D-48B6-A128-2BF029EC864C}"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69DBB0A7-4E94-4C36-A884-21A4765FCBAA}"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31BA6CA2-76A6-4450-BE66-BEB3A901E363}"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07A22B6F-A9F9-4A94-9D8C-BE521B81CB24}"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C780BA19-83B2-4F1B-B197-AB7DAF35503C}"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B8ADE10-6A9E-4E6F-B45D-CD4B0FF252E0}"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49FB47A-AF2C-4532-B108-547E8589CB9A}"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61AC25D2-2A87-4C28-BF6D-EEE9B75787E8}"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9942F323-33C5-4D38-A7A2-E444E219484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C6A9801D-E3D0-4334-90E5-CF5BCFD7D0DD}"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40248BD9-1011-43D9-B9C3-BA3D75A9503F}"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241C7FC-8C88-4D67-98A2-9E0FF34BD17C}"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20D487BC-990E-455C-83A7-08BD90C653AE}"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A412C77-E501-4E33-8272-51450EA9F218}"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3F9F309D-0A77-4842-8A33-DFC075417C8B}"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8250FF68-B3EB-4482-9766-F805168A92AE}"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B035613D-A0A9-4950-8033-12238A09BDEF}"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C0F334A8-4983-40AD-970B-E07E0F727DA5}"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EC51E207-2900-4BE5-9A3F-BF8C53A70F09}"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0E41A02B-E290-4127-8950-8D1C0E4FF1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9A47B56-111C-486E-A655-054E9D10C17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67B79E74-2446-4899-9295-256117DB8BF5}"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8D42854-62B1-4C8C-A4D4-BBC543B1ABF0}"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80E77218-9996-4792-94A6-95E856F62513}"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EFEC36C3-F37E-404C-A0A6-42EA767C68C1}"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4080D620-D45F-48F7-ACEE-187BEFFB67D0}"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C2D8B24-C4D9-4C31-8B8B-E3DB901A09A2}"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63DB4232-4390-474F-8222-BD21D7083120}"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B39FDBFC-0D1B-42B5-8338-D88543AB26D3}"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84D15EE6-5CCD-46F6-93FF-E5758598EC47}"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7C5373FB-FE0B-4137-87F4-6F08033193CB}"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B5A89723-38C3-44F2-8C94-39F15B0EA8D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C4DB7195-0B49-43B7-944C-C008D34B3E8C}"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BC4BABBE-7932-4157-A65D-C531505D3A3C}"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E5A1E784-75BF-4E01-B057-6F90FCA5B69E}"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DA27414E-2C52-4F15-BB48-8C9886836F31}"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6EDCD725-5377-4674-BF99-E737D982B815}"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29ECD203-89A3-4B6D-B69A-EA75AAAF809E}"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D5D17E9-C300-4E16-9ADE-6CB18C910DEC}"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A89B8BB6-2B6B-4903-81A5-EF024D9B1481}"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5857E7E6-510A-4FC3-A12A-E289902D01B1}"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6E500215-85C3-4D3C-957B-443FDFB1553F}"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BC59A44F-8251-4163-9EC9-51A3BAF70CB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F713FC26-0713-437E-955C-3F886C4997E5}"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A94768C4-0989-4AAC-B12D-580E05FA4029}"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BC7E544F-DB89-4248-9713-1B39DB678BEC}"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0EAC3C0A-1856-4956-8DD9-5F7B472C56C0}"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DC1A8BD8-5CED-48DC-8CD2-4E0333AB94B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87E8BC6F-F773-470F-8A17-438F1AE3F8D5}"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7B3FB042-CAF7-4D50-986D-E03C56BEAB70}"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748A81C7-E27A-40A3-AA32-03FF87C0590C}"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4F79E94-AA82-43E5-9CDE-B84961DB6881}"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A85AC516-A1AF-4CDA-9B28-1A5830FDFC2E}"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30416A5-FF7C-453D-B71A-E51591ECAC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E3716DB-B0DD-4480-A0F8-6AF9533A7CFF}"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C7947783-8B44-4F8F-8E9F-F8BDDB1655A2}"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0F5C506B-85ED-4A6C-B285-B943FA481DB1}"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695DE967-8585-45C6-9714-3CAC932A4BA5}"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1BD209DD-B8C7-4C97-B13C-8120F5C88964}"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509B8AD6-CE6F-4AB8-B09E-B3709C9BF58D}"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B03807EC-94B4-4741-9720-3BB135B54731}"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979A6136-CE96-43B1-A5DB-573618E7788B}"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6FC7BB0A-24D1-43C3-9900-DE9978192081}"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A75529C5-A8B8-4A60-9BAE-CEA7591C67D9}"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7711477F-4555-47B5-9EC9-1FCD48259EE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C2BBD30-B8C9-44E7-876B-B48E1D61EFA1}"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A70A0C80-B948-4FAA-8080-B656D71912D5}"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B5DC551-0A3A-4B12-B9EC-8827A407627B}"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27B31F0E-AC07-4622-9021-50D2D2C3894E}"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563B88ED-3E33-4C57-8A31-F8DC410CEDD6}"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65314D4E-1EAE-46C0-9ABA-BEBC91477C2C}"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2C43DF1B-85DF-40D5-A1F2-81691A56328A}"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419AEAAD-23B0-4B39-8591-C4B11D972F86}"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55897C48-7C0B-42E8-AB7D-FC7EF245CE9F}"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00A16E22-A526-402D-8CCF-EB71DD4432DD}"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D86521AB-B0FE-4188-99DB-E301802153A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42874F57-2EF6-41E1-BFFC-959A8C38E58A}"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EFD39275-BC84-45CB-94D3-375C255DAB50}"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CF467E1-F436-4364-BC55-3164DFD3A8B6}"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402D690-E6ED-4297-8A45-4594EDFFFB7F}"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5A8A5C7-79A8-403B-A07A-1BAB5C1F1E39}"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D46CC68B-C9D8-4F11-A191-987988099763}"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67D8FF0F-5A6E-466A-83E8-E5DD2CC79953}"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41F600E3-18CD-467D-A898-8856BEDE7B3C}"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FBBD6452-11CE-4157-A2D8-1950CDD91A0A}"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10AEE4BF-8A3C-4875-BCA9-28BB1E2144FB}"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DBD7CFDF-965B-43C9-96F3-3374F5BDAC7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5D184C3-D8B7-4545-8339-3449264EB8EF}"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1C3DD572-A1B6-413F-B3DC-ED07A23AEB6A}"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43022135-0B2B-44C4-ABB4-A3C9C98035A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708A1308-E500-46C9-A68C-B65A68579B35}"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172FD72-00A0-4B08-A77E-F20BF1E0AB40}"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87F43AD-374E-4996-AEC4-94B9C437C4AF}"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9ED211EA-3C3F-44EE-9C9D-208117125170}"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D687081-413B-4B20-BA0A-B9D6D515BFEC}"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6771F817-9A04-4C54-A0BE-50BE807BE56D}"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3AD91F1A-1AF4-44C3-827C-5305687DE5E1}"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382A27B4-0EE9-4C6B-AD4B-5387E4F3006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DCE7A1B-A8A8-4ECD-97D3-331D7C7E4513}"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241F5A5C-51D7-4660-B70C-61E022A7C453}"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F165425D-54B7-4251-8710-AFAEDDE3CE1A}"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AF79DAB7-8BE0-42CB-A0D6-3D1698812DB3}"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44733743-8FF3-47D0-97A1-D147FEC404C5}"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046970A4-E3F2-469A-8071-6A71FBEBA37F}"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248C3647-06AC-4E59-8BCF-12391882B269}"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A48CF597-A4EC-4297-810D-6535716125A7}"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7257202-1EE4-4126-A4E1-6EDF751EC458}"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F57DBD6-8E9A-49CA-B5E0-63DFBCA606B0}"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878E6455-537F-4B70-917B-8F7E8A3CB9E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87D36066-987E-401E-AA37-EB2FB8AFFA3F}"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771CE5A2-21F9-407F-852B-AD16AAB32B58}"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91733389-B115-4796-8798-9E1F6DD51101}"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93958494-EB50-47AA-8486-E7440AA8167E}"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6090ED07-9560-4E7F-8460-FA84D04FF352}"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EF6E48B1-55FF-4B0E-B46B-9224E67DB96F}"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0A643C4E-6490-425F-B949-5B2706FE818B}"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29208895-3897-4280-9079-A5DCD0CCA138}"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38A458C-5E0C-4D0A-BA23-E3174A5A922F}"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8E04F36D-67CD-4A9A-AC80-8ED919E7AF10}"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C0D566D-0145-42CD-855C-731BE9863B2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F19AE80-213E-4038-8FBD-902F243695B5}"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D6403101-F6A4-48D3-BB89-D1E6B7F83FF6}"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A7D28189-C949-4348-B613-D8C03FFB1BBB}"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F791B75A-4A8B-4C50-9ED7-105671ED9157}"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4286718A-A003-4E29-9A8C-32B8DD314A8B}"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8C5547CA-FB6E-4231-93FA-F4BCEB421299}"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8DC093B-C21C-4C14-A259-668B33BA7A86}"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35D96E7-D460-4172-9654-1AF60EE5F163}"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F4F60F74-8BF9-46A7-8C06-8EE231002AE5}"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16149DE2-7BE2-4E5E-8A8D-5BDD2DF9B751}"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9B9CBF82-C228-486A-9A85-0E89B44676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DFE029E-8DF9-4216-9C39-492A009CA6F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7F99E3F-A8AA-43F8-84BC-A1DBA8C3A4C7}"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0CE51C00-E532-42BA-8850-EE8C9CDA6793}"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1270147-B541-4071-9644-2317BE668EC3}"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F9CB43DE-6659-4497-B072-497392650684}"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489630F2-CFDA-4038-8C24-8DCDD419DEB4}"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FB9DBB17-F7F2-4DC8-A523-477513691969}"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64ECF9A2-30B8-4BFA-88D7-9FF5962D19BE}"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05AB798E-05B2-4884-8153-211B20F33824}"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01CCA1CF-6F70-492F-B4DA-FCF8D85E7D25}"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528FDC17-4E82-4D22-BF69-ED945C607B07}"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8BB2F366-07B1-4FCA-8240-1FDC34A3D04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CA9D63B5-B6C0-47A8-9AD9-2F3B245646E5}"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D34219D4-0320-475E-8AAF-B6B9FA2625B7}"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0FEA1B8-5F00-487D-9095-1F142229209B}"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5B159493-0F4B-4C35-9FD2-68AC9B8EA10D}"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9034AB9-BD88-46B4-B65A-FE54BC9CBFFE}"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B209FE5E-B843-4DB8-B976-B148C6894D46}"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0AE18634-92DC-4C55-8A1D-DEF47485281E}"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37D54F81-4CD3-4642-8C1E-633EA04C9B2E}"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799764AB-F3FD-44AF-9824-DDF144CD1FA0}"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4E564FC6-DC28-483D-B57C-B4BFFE53E156}"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12A82FCE-E63F-4BDC-B885-F6B8F3A17C7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82478B7D-58C2-4C84-94F7-64B80226FEF5}"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7A016C31-C2E5-4CD2-9410-8C2C06BE1A90}"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854E42C7-D902-4188-9EEB-109402D0D1FF}"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CA1F0818-5BB7-4212-AACB-78C94DFCDA3F}"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DFE88DC3-D634-4B36-AE65-BEDEFB82A6EA}"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AFD91B8E-EC74-45B1-BDF4-58C64D5739E6}"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4E8D7C3-3052-4957-B2AF-89A92CE0050D}"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E7EC73C7-9C76-4A81-8D9C-2E100A5C4CC6}"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74EEFE02-FB26-4401-880B-F53DBD5DEBE5}"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311092CA-AEB2-4E79-AE64-EFCB4002E858}"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A4CB3138-170D-4940-B82D-F7C8F1F5047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C48BC5C1-E746-42CB-BD71-2FD9C643F1E1}"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5A63043B-010C-4E24-9C46-AC36F3B9DBEF}"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1D2BF6A2-3EE5-462E-BD0F-A0C3F9DED39F}"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71F131C4-2E45-4116-A5B1-384AAA18D73A}"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92C3B3A8-6CB2-411C-81EA-362CDF7302EE}"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848BA7A1-E5EF-473C-BB27-A97135788370}"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4201244D-44DB-4671-8C4F-D9893DB511C3}"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FED1891-E21E-4859-B43E-9407983F5A9E}"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345E760-8A8A-4721-83AF-C73383D0AD79}"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19C5982F-966C-4EA4-9964-2A5556612617}"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0D75C13C-8102-4D96-B8ED-4BDC0196BE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C8DB1BA8-2846-4D21-B0DF-A03F39FC0CE3}"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E2D20B9C-1EAE-4401-9019-F174F4F6BFE9}"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192DCEAD-B920-4513-8127-4AAF4F802A2F}"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4D7874D-D0AB-4BE0-B984-07ABA3C4C0A9}"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49FC5C41-1565-4DD6-AF7C-06CFA6AA1873}"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69006B07-A004-46DD-9775-FF2779317488}"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305D6B51-5207-415B-B6B3-DA90BA762E6D}"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463AA60B-3771-4B98-A65B-7EE34CE85E8A}"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33A374A-97E5-47FF-AF69-240FD97DC0A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2B61178D-42D1-4856-9AFC-3E614C5D3DB3}"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3A75C71-A703-4DBD-B4E6-8C3756234D9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48B6887-C381-4E93-807C-A1566F7C56C0}"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A901CB81-5514-4740-863E-B2417CB9FD4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C87F97D9-CEF5-408E-87B7-5C5DE66B008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5FD97F9C-AD77-4848-B595-061369B71464}"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CC40E79-5CED-43B0-9DB3-9B2B404451A1}"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D6E6A30C-97F4-4ECF-BC2A-02DE9E70F07E}"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52928F0E-76CE-44AB-8449-0D3A8911E7EA}"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E9AAC704-4DC9-46CF-BBC3-EABE77DBAE92}"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DB2BC433-F4F7-4097-88FD-BB2F2287A41D}"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7DC432E0-5578-4267-8E2D-12330F6C1334}"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770D284-5052-4F75-85D5-AA96984FE86B}"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C97D80A-646E-48A6-9D70-4C07E4C93228}"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AA04EB49-2C70-4A0E-A8D8-C54F7C1D1D8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73ED6778-78D9-429D-B7E6-BBAA00158C5B}"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FFA1451-137D-40B1-94E9-EC6F91CD99D8}"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4F6D2A6B-EDA1-4CFA-91C5-EFB6DC50B3A7}"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BFBAE58E-641B-4559-9015-28FE83580D02}"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D1FEAA45-6145-4202-831C-259F8F71FB5B}"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450FDAAC-9D8E-4050-B081-62BC4A8CEE7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CDD59851-96E8-43B5-BAF8-C2E744851C2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EA7D5FD0-0425-4391-B518-862C593F1E7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C7C07EB4-A0D2-426C-B056-9A2DAD18DA5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AE219D4-AF02-47DF-9C0D-D135A8033B1E}"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DF31B14D-F147-472E-80D9-566ED1D093BD}"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0F004B1-0511-4415-8BFD-7947A002955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EECD61E-C3A0-4231-85F0-7294B5A007A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EC39DA5-EA35-48D0-8CB5-EBA59C051B2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5255857C-13A3-4059-AF1F-3774208515A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C2BB76FB-28A8-4785-8E7E-F589BB1D6B4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11944CC-394A-475F-A681-00BAD8A948BA}"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9086164E-A97A-4720-A94B-7C15726DC8CF}"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86D1C13D-8991-4F06-913C-EB192D66F327}"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B4BCDEDB-2A03-4621-88A1-AE537D3914E4}"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912BA97D-AF85-42F4-A41D-17A58C71D4DB}"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9830A5BF-AB1C-4F6A-8B24-47754EEE0E4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31A0D716-846F-4014-BAA4-BC9A14431AE6}"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FE0AC671-D86E-4244-BB47-F5041DAA7DC6}"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F3525F0-5F13-4162-B56F-32E9E927860E}"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5157DA6-3738-48FC-ADF0-622758711CA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AD9945E-85EA-41D5-97CD-7E23B1DEA99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E736266A-36DD-4617-BDA9-6DF7538A8DB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1AC48751-3A83-4C06-9CC7-195DFC49F719}"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CBD2F8C8-F71E-44AE-AB1F-A61F0016E86B}"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397BB6D7-DF2B-475F-BDFA-B253750D78E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8F3572C8-386A-4458-856B-C7980A7829FE}"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8B9D4F32-FDC5-4DC7-A12B-35C66B08B6EE}"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E99334AC-6AD7-4162-8BE2-BE764EC6D3B9}"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28CEE36F-F30E-4D8F-BA91-78D7195BF45D}"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CB29DD59-585C-4182-96C7-4CD1952A2815}"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C410DFEA-0F6B-4B11-9EC3-9D92A71544D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2D5EFFE1-3C9D-4C10-8C0B-8A152D141F75}"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67B59A45-82E8-451E-9815-B69608A77279}"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8CD6724B-DA11-4BA0-88D9-58C7627B263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F020361E-7CAE-4E26-96A1-332F3C482A2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FCF712A8-A8EA-41A0-974C-3886D8E8B403}"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1768E93-8ACC-4C83-A792-EF1A0B4F485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AA18BB18-89C4-4332-B887-B9EC46544BCF}"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169F1405-23AA-428E-9DF9-FA74D8618464}"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5B6A8EE0-D0AA-4CB0-B0EF-972191FE5ADC}"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1405A55E-F370-49C1-A2D0-FA1E7517BA1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3CB3135-0987-4AD3-AAFA-9CD577165E3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064C9B3A-C75D-4657-ADDB-13375F2D2E5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34E978C9-E330-49CA-BD6B-1368B161794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314B7DFE-F8EF-4E75-8301-1CF7AE189AD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8677B4C-875D-49FD-9B52-B1DD105962F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03056243-26EA-4D20-9ABB-AA05B9637CA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56C5AEF8-2123-4E94-AF4F-2DBE1F1E192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1DA4F53-F54F-4FC3-BB20-437D4ABC5C99}"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30AF3269-073F-43DD-8549-8AD4C5FBDD19}"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D4CA80C3-80BD-45A3-88F2-FD4ED3E44E6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F4198CDF-E499-4902-8FED-BDF74CA12E46}"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32D6C42B-23FD-4326-93AD-31D0436088E2}"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5913E19-C7CA-44F3-8154-83C5133277E4}"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1F2F76F-AD85-4F5F-9D22-03834952CBE8}"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B8487C0E-97D1-4A06-ADDC-5B333B88C241}"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2946B6B0-8FFB-4A0C-8667-E7255ADA6787}"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4F9763FC-A07D-42D1-AD41-6F3F79315F82}"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07D4FFC1-9EC4-443B-9979-C2E3EB6D8321}"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C9592B7-2466-4CFC-ADB4-8E7725781B7F}"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3059140B-829D-4CBD-A5A4-EFED4281716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6B3E5333-D122-43FC-AC01-BEC4FE51FA1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C6038F59-A52E-4BD4-85A6-817794BCA57E}"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1C29B48-76B5-4F19-BB6F-B332C3F84572}"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D9D73091-1ED8-4186-8A3D-8647AE814615}"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E3D822D1-1C9E-4FB0-9A81-04AA3A989653}"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15B8E21-3C20-48A5-858F-CCDEC86A9C2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790AF728-0AAC-46DD-9ED1-C746412ECD4E}"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E5DAD7F5-1F81-471E-B2AB-9E5A8E334D0D}"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9B684E20-FAFC-4F86-A3AA-0C15DE62DDAA}"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487FAE0-7754-465B-9E7D-93F871DDFB85}"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5E70E7DA-D554-49DA-8F9C-4BD4A17CB5C4}"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EDE006EB-0B1F-4F31-9D4E-AD7DE2A27C08}"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C5517E23-283D-445A-B72B-F06638E4C10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A4839BF-1C8B-49C1-AFA6-FC61147497E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6C888AB-D547-4A93-8A21-49C978B7D07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8C082B55-4D2E-42A4-8470-08B08C691E7F}"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CA79B22F-0637-4430-BAF2-CEB00601453E}"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2E301C17-828F-4ED8-8C60-4CADF968619A}"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13EF90CB-5CB4-4038-9F8B-6DD4E692859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E07E7162-7CB2-4FAD-B953-474E5270B09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3831DA8C-210B-4C4E-95F6-63C8A1181D49}"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8A08015D-4542-4D70-ABB4-C07756AC4A9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04868542-8D8C-4E1D-BE6F-6B2BA151DA07}"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44475A62-37CA-45C7-9AAB-DAF1897303E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814C595-D491-4A85-9951-6D76945E679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7734513B-335C-419E-B5AB-9ED61250B79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E1067F7-9379-4042-86EB-857490498D9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BD95801-469E-484D-8434-BA1B141FC98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45296254-0822-40AB-9DE0-24371B5FBBDB}"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A22B47CE-5A76-4BCA-B360-4B3103F30A6C}"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C6140A8B-F07D-4F9D-961C-6C10B1439FE9}"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AAD70624-315D-487B-88E2-F1A95DBA77AA}"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DF835D82-22CE-4BC6-87B4-909C073061C3}"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E2AD8615-4E99-4F11-AD71-8C348E95EC4B}"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6D00B1E9-9FC6-4F00-A0E5-190BF1597E9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5BB994C7-E601-47CB-A7C8-E290AAC39D44}"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42E1A788-AAC5-485A-9F0E-3B2A25441C5B}"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92167F3-B405-4002-9B0B-93B4F913F5E1}"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DC03C7F-ACE0-493E-9C11-CDD6B087E1D5}"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0684755-4C54-4BF3-93EF-9C01EADB3778}"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3E890A2-3E60-40AD-9B1E-26A8909A0D43}"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DEF05654-1090-4088-ABA1-F3AACAA48D55}"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F5D6FEE-E16B-4F98-BD9C-B404305761E6}"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8F64BC50-9861-43D6-9143-7893DB0A0FAB}"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EBFBAFEE-C0A1-4AD7-9E7D-2F6044CF5AD6}"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86C9F342-8F2F-4629-A9E4-DD744105AC0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C9DE2F1D-FD8B-470A-A071-8B689C586CB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65214C34-33C1-405B-A838-25563B97F050}"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51188F3A-0771-452B-8827-67EBBFEB00B2}"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D1F8DFFF-029F-4D5F-8CC9-31D322A6CE77}"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C58CFE71-0F59-477F-AAA7-6DA2FF93C42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A6D32BD-F746-4124-97FE-3BF0CC5445B7}"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B58C0011-1EC0-4354-93FD-7E7A92C8968A}"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F7DB0E0-1931-439B-B51D-21B6F5386CEB}"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96857302-B775-45B2-ABFC-FCFD25637752}"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450DED04-3BE9-49FD-904E-09ADBC86B661}"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4E09A77F-AFF9-499F-AC0E-838BC5404781}"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6F5B26C-3ECB-4932-8057-5D82CE4133B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5586D84-77F8-44E7-AD9F-EF8014BD9C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D4E59E8-B78D-4A11-8309-9512CCEB5B8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0FBA243-44AF-46CD-B87B-135674D6176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2D638162-56F4-40DD-B5FD-BAAAA14312F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54018198-02A2-457C-8451-73D50C3997F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09CF5EC-E92E-41E6-A44B-00A6E1D645C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B4BB28E8-1AF1-48DB-AA91-1A2BCD6B9DF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AED7EF6-4196-4962-BA34-9D80C2C2420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92F33A2-F939-4244-AB42-A89663265A9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05F3D180-7F76-4C87-AD6E-10994707973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8142DC6-7E3A-4463-98B3-F635A88F10C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F2C15D1-F82B-46A5-A3E0-113BDB6F3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72B5DE4-5485-4A22-9543-693D64DE8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6D5E8E8-9931-4D6C-9EE8-8247BC50D4C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05E0D22-35C4-4532-9EE6-9FAC9B6F552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996E3AC-612E-497F-A790-ED168FBF6FC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84053418-5307-4464-B4D5-3E8E461C67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EC6D3C8B-C461-4359-B2A8-77707254B7F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3558534D-F568-4865-AE44-653A98853C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3770A05-F721-4BBB-B6D0-A842CAB2241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738B38E1-B095-486E-814A-9DCCC58DDB3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2D9EE8C1-1DBE-463B-B471-89BE86F77B0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486064A-8A0C-4F51-8537-F629EDFAAD7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DCB4BFDC-C909-47AC-97C5-21E0F0C82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7BC1C3C-92B2-4F2D-9D12-D2E180A7767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9ADE851F-7791-4667-BF43-14A170A546B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65282BE-D4DA-41C8-8FFA-A18AB87E0DF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3A20AA3-A96E-49F2-BDE4-DAD7AC1792E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9FDE42C-B792-4844-ABFC-54064523530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41A663A-3DBD-480B-974C-D9F91FA9F5F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A6ED633-3C4B-4E9A-8C75-B368AC47A65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18099CB1-C1A0-44F0-AD2E-310D325E34B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4B2BEB0-B06D-460F-889D-156964AD80E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CE88FE6-9D8D-4585-B8C0-CE341A535A0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BC5771D5-4223-4F6D-9364-A8D710F53E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D3F9966-350F-413C-A539-59C80EEDC1A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255676DD-B171-4D15-9508-CB302931BAC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B5B74A9E-910D-4CC9-948F-A162D337E9E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00335A6E-5CB3-4749-A6E4-C7F719050C7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49D4433-4B5B-4A2B-B5DD-C383F83C03B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3B9E56B-0484-4408-8BF0-31D422E4BF3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5640B3A-7B7B-4436-AB7D-5C629A4AA61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906212CF-7D80-4499-82E7-7B63B1BE3C8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7F5EC883-E8C8-4AFA-9AE7-07AD594073C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0EE7C488-BCE8-4AC4-9024-9CAE3733847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A78219D-DC33-450F-B039-1E34066E65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FB5EB29-E2AC-4252-AB66-2EAD6157C15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5732E1C-0588-4353-A214-C5FC3D6021B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1F05D76D-02CD-4AD1-B343-8233F3BBCB5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B030E932-FE66-4714-8792-5A500B3DF7F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31BE1717-6468-4BF2-9E8C-6A1192D44B8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0C73DD90-0A21-4461-A146-39D35A0344C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BB66EDC2-72F4-4591-A773-89C702F60B6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D7E8C36-60D1-4B7D-9CE3-EC4431730D0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B48A87F-C48A-4FE8-AF3E-162E527F5E3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703958F-2216-4BF3-A60F-CADC32D161E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8247E94A-F4A7-403B-B881-EFC8D001DE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C9EFA90-23B6-4D09-BD20-2A162EF72F2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54289BAC-B80B-4037-8957-4F095119B3A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AB0E530-8DB4-4CB2-8724-71F3AB666BB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E69DFDA4-C89F-477C-96AC-CAE4E5A9198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57465A7F-1F94-47DF-BAD9-FA6D30DE112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786B8A0-85A9-46E2-9AF5-6C3C2EEF27E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2060BD60-30E5-477E-A301-7CFED982439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B7236F23-6B3F-4E5B-99DE-DD62AEC3BBB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4F0E186-175C-46C0-845B-20834B164D4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28C9F97-956B-4AC8-9F19-F0B2107DBB7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011F6A3-CE8A-43D3-9E42-745F6E892B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397FCC-EE94-46AC-8DB5-8FF094B3789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15088A98-87E7-4064-97BA-5896386709D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7ED31B54-3DB2-4634-A68C-D427AB12F01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04D98B5D-90E5-4649-ADFC-FBE1B52DD07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85C27E0-C555-423C-AD25-9F657FEC18C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D2F56DC-DEB3-4213-955E-E98F6C7D8C8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18615345-CCBE-4EEA-A6DE-1F917B1FCE5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2109196-3D4C-42BD-8AA9-4B83869B5A8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98B86135-819D-4CDF-99D1-0D9EE5223BA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4D5AD64-3966-4DFE-9DDB-84F8EC920A4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8D6B595-4B39-4BF1-B670-5AEC002049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E3580-E660-463D-A6FC-3D75FD5E7AA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8401AC1-FCC0-43F3-ADD3-41869E55440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E62CAE2-3441-40AE-A4FB-8F9A691128B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F023620-D03B-44D5-877D-D1FCAC60BE1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5DBE8F2C-C6FB-48E0-9275-C00AC29A3C3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0F61AA5D-ED22-4616-9C1B-28A3690DAF7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97D8D52-437E-41AD-BEB2-A9E29883028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96B1E87-4634-4FC4-B10F-DB931093567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5C928E8-B970-4503-91B4-712ED2E2762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76E47B8-E9F1-4536-B0F9-4AB57B84152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F1FD008-ED64-4F4F-AF8C-C83623EA65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C8488-E7D9-4683-99D3-3922DE5D577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7843EDBA-EE15-4642-AC11-000C9128940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B1BCCFA-C340-49E2-A6EC-BEF344775FA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517D29C3-4924-4B22-AF95-32085A63EDF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B061CE47-87A2-4EE4-B110-091BE771B5C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C63EC3B-4056-46CF-BCB5-ED65105F2A8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E224C7C3-8EBF-4451-949B-6E2A98FC7B5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8FF356D3-85E1-4A6D-84E0-6B03B1267F5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8234034-D377-4284-8386-08E2087D0CD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E267E98B-61EF-4879-9457-7754483D181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0B71CF8A-A4BA-4499-B5C1-ADA248B809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F38DB5B-0D25-4669-84F6-F620222105F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234768FB-60A3-44EE-944C-B2E0447EFE4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FD6E06C4-4352-4375-92C2-7BEC697186E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8E868ECE-316F-449E-B937-C97316FDF19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5F4F63C3-D078-409A-8A2F-0F8AC882F59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2077A48-6579-4B7B-AFCB-65213177C74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2A35E727-41AB-4AEA-AA32-F0A1CAD9687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0EEFC62-4590-4B68-83B7-B390791E165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C83D8831-6B5B-417C-99E1-E1C96C36E26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C8896AC-10E1-492A-9D63-137A4C7C006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6E4E404-38EA-487F-8B45-5F43BB2ABA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3B4A0A-5C98-4982-824A-C474A0C588B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F13B609-1E41-4741-9BF1-0DBC814239B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B24339EB-29F9-42D8-8C95-ADC33831826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926633D6-59C2-4B48-977E-04114013B05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BE1356F3-10CB-4F02-8C3A-3D5350028A4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0774062A-EF3B-469D-9CEE-AF425763EB8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890CC8D-583C-4AE0-962C-1D74DF0C49B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6951C286-5910-4216-AD6C-4E463FA72B1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4CFF15EB-15FE-40AC-B867-DA68A03A69A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05C5DAF1-AF1E-40AF-B2C8-E3557493935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AC8DD82B-468A-4BB8-87F4-FFDEBDA1E3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5645B1E-2240-41D4-9922-6A5C9D97C1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9A8F4C2-036D-43FB-952A-D01C2818C3D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56F20474-54F3-4674-9EAD-475DF32C7F4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A7DA3D7-4CA0-432E-A608-43D8724CAC2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4A79AADD-C3D7-4D81-9806-238A9EB3D02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D5A5F17-60A6-4FD5-B913-E3A5909ACBC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4699DDF1-1FD1-4942-AB10-BF2DBAA9871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D8A01485-35B6-49F0-9F9B-9F3E70F99AD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2143F2E3-DD95-4725-A821-C4FE87EC9AA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6733ED3-4F3B-4EE8-A055-093C132B910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CBEB283-2395-4997-846F-D89BC8D16EC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F2DC24D-3BB6-4B11-AA3F-D2F8706B4B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E46D150-6B18-4B1C-BE4D-4070109CC51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AF8C9F2F-5252-499F-9E09-9ACC9EF8A68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967FDCBF-145E-4A0F-9F9B-C2CD93102BF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9EF77A1E-31D5-4844-9E51-0A13511B648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813BF2A-339B-4EA9-9C58-43EECA1C8B8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AD8D0569-261A-4931-AD5D-CDCE6270BA3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EDE6700B-0C94-4693-89EF-4D7F020D641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BFB7A232-FCE6-4620-9CE3-4D9EA821836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B6B50A92-D981-4BE8-B812-35DD895905C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F1298C97-9AC0-4D6E-921A-B74923E4DAE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7AE77CD-84AD-4870-BB59-960C34D2D6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FF798F7-DAA9-4372-9758-77306B4DC15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7F58F16-4B5D-40BB-85F3-FCC8C5FACBC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18AB4E1-0675-4187-85FC-35725AB4F499}"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B896E7A9-3464-4AF4-A0BC-BD98AB56111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3BC3CA5-990F-4815-8D48-31177D67CF6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908CA8E5-089C-4DB0-9F02-D2CDD50D012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86E73D3-E1E9-4D16-8FE2-D7CE9BA7BDF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7F2A0ABA-29F9-4B9D-A485-1F23122D985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4A30C347-09FA-42C9-A0BF-9B573AB16B7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2686002D-BDE0-430F-9CC6-2D30AF769FB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B2929461-C6E6-47EA-9790-4EC3B71382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604A7AE-AD76-4C71-825A-541B2A4CC33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004D4CE8-79EC-407B-85F2-3CA63A409AF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A3C49CB1-B7D3-4635-B83F-93D12DE0BCF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9FB29D1D-68D7-407F-94A0-29F6ACD06B5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276FC8A1-BA57-4323-B28F-38AE4081B1F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770B117-7CF3-491D-B1AE-D190D4DE005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6A8C414B-EF13-48B2-953B-8926C0CE10A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A2A774DC-0980-4D5C-B8DF-809C86208C3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96402D2-DD10-4304-9903-9A5197F6DC1B}"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39610D4-EFC8-4E66-88CC-06ADC68899B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20102A15-BE9F-4102-AB9F-1B2CB13E6A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6B9527A-1658-4195-A277-DD7987896BB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7BFB813A-DD66-42BA-BCAE-234816273E1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BA34ED9D-D52B-488F-9536-AF63EDB7D8E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92F61B6D-4875-48EB-8FF0-CD934AB7193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EC3FA62-33D3-4D7B-ABDE-784DD219C8CA}"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FDDAF57A-375C-423C-91F9-3E6FF299151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A1253E16-2DE6-4F98-A44D-017DD5356C7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534A01CC-B5A4-41B8-A473-C19A4C87520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C16E2405-C2DE-46AE-BFC7-7305B3783B7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A90FDED4-BC77-4B6B-85BC-F4584C635E9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873DD0FF-B176-4349-99DD-A819FC0641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7052E4E-2195-4B79-BD8D-89839C17846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24A1AC5-A2E8-41B9-82A2-48A8E4426AD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38054D1-B864-47F1-ABD7-C60A20C6432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839E231-0AE8-4719-9747-338B50CD7208}"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8DF80114-A192-4337-A0AE-94F13EA058C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682E58CB-F71A-4356-8FE2-52BA412E36D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E122C20-B4A4-4144-A1EF-7B7A8754FB5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9D5B86C-48E5-4EBD-8931-B9BD77B9E78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3E8EB28-DBC2-4CCE-8D3F-5D1D4FA3FC9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943E139-C0F0-440A-BACA-AE9670F8DD1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948C26E3-4C95-4BF5-B014-E258E00F71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7CA6B07-73FF-46EC-BAF5-455C800D727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B4C91A3C-38DB-45F1-B72C-79653C1560E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D894914-69BE-46F5-BCEE-EFA1DCF218B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81F1F7AD-3D00-47CC-A703-84F345FBCA5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33D04818-DC57-4312-AA91-FBE2C6C5454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8C240446-DD18-431F-8E2D-6C557EE07AC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26198007-BD1C-4987-BB7F-DAACA78C795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BE792307-1344-4DB9-A8A2-5886B07FA7D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19798E18-0F43-44E7-B404-599D6B1EE9F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8EC14D7-EF8A-498F-93BD-B376FDD2B55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33C7229-DCE1-4209-9A14-FEE6988FC3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05869-03DF-4F6B-BD9E-501F575BFBB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BA9141EF-C923-4B9D-8C70-5E39E9F8898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13F40BE1-EA4C-4234-AE81-F1470E9620C4}"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0D822B0E-5D32-48C0-A1A2-4DEB2F6ECAC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F501EF2-E72D-4BEA-86B1-F73733FD8EA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A5F45BC-C5FF-4FDD-8354-4E84D67CC43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357D1E70-0D25-4BAC-BFB2-8D12B1A796F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B137054D-969B-4980-81B3-B5882D12973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BF18C3C4-5D79-449A-A85D-A73DF75BD93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FEC14757-6001-46C7-A403-100746645B48}"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29BA385-D8D6-4C56-AD23-B6E8E6E6982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9D2E981-6213-40B0-8CE9-0F592FB1629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15C0675-0C8E-4806-B8E8-D4DEECC48B5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92F9C957-E366-4C3F-A2E4-3D16C0792BA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9EAB05F-836A-41AF-A4C5-EDA21A18D6A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82984CA9-01C3-49C7-AA8F-1345A68F6C0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9BB1F5F9-FCC6-4476-AC68-7816BFDD68D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0FC5BB2F-07C4-4F4C-B06A-32CA4F1B1DD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69A88DD2-267E-4CA6-9829-F769F530BF1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91F81284-3555-49DE-81CE-145E1894B99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4024836-C084-4236-B0E0-A3BEA456921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8705DAE5-B9B8-400C-A092-612DCD5000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3297976-2147-47FB-82BD-298C5DEC5AD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A678B20B-E974-4FE6-9808-AE928F66373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A3AB0C5-A853-4085-B77C-FE8E03228BF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C4FFA1A-A551-4CDE-9A50-1C1752709E6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51B3B2A1-F56E-45B9-9DFD-B67516BFC13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8225C68A-2189-4213-A2CB-DF40D48E03B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FA1FD45C-42D8-4E6B-942B-E967943CEAC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EA530980-0F62-4EC4-9A43-303C82C8372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3606E276-85F2-45E2-9B59-048D185AA25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846DC25-9A88-4B71-9E83-4E910F9224B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5BEFCED-16AC-4B26-9DC8-F8C2E5972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63A4C9C-CFA0-490F-A708-116A749784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5C13413-3175-4538-A338-E8ECDF8BF3F8}"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696C4923-11DB-4FB1-9340-A00D0D52530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E8D0918B-FABE-4D17-98DE-1FDDB2B67D08}"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60091915-CA16-429F-AE38-59F7D42FA76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F25AC09-0501-4231-9976-B75201630B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EE4EA34-A97F-4F29-B07A-D82EC7E6FF7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CBE425D-21AB-434B-A53F-1B8BD223865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58CC77E-8C5B-4DE7-B062-7BF4A8CC0C1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5CB72CFB-6C9A-4A39-8C86-4CBE48D019F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6E23C1C8-BDF7-43A7-AC24-E13297F2734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928736F2-EC49-4C6A-AC05-70D438A000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CA7A64C-18A9-4294-A458-37A66DD245CF}"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22858D18-408A-41AC-90C2-C2094BF50DD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E87D569E-5339-4AA3-915D-F22F3A9D7F0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5F9D74C4-EBA1-420B-9865-35AAFF157F4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D3F0FEBF-CC60-4F8B-B50B-CE666977C07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20311908-89B4-4807-BA94-BE22B192A4D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E7C27E8-756E-4E85-B148-EC94E790078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9E6790B-0E62-4350-A1D8-FDFD143C51A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F606ADFC-5067-40AF-8900-104CCB3C632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06C9F28F-913C-46AB-9460-CE3AE565C5B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F2FAD6F4-CC93-4E2E-A06C-3634D32536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2562653-9DE1-4F94-BCAF-510EBD7B9441}"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9C832E60-6800-4F39-8F63-23027C7D353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A36DB74F-CA5E-477A-BBA4-23F5EE3F944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68FC519A-B860-4B7F-BEB9-A21A451758D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D400CEC4-46E6-4905-A043-487E415076D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8363EF2A-994B-4D69-8D90-8AF9B47ADB8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A42AF71E-8182-4BDB-9AC0-49D03C54E06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8490D53-4908-46C5-B899-BDA07D24ADD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C449AF0-9F53-46BC-A2FD-4E9B4CEB584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7AEB603-C807-424B-A83B-AE068AD6713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7101C6E-8344-4D00-8FBE-3120F0D73B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CB3127F-3EBC-4AAB-8A50-7A7AAA5ABDF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84FFAB7C-8845-40EF-8895-693D50172AF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17A8DE9E-A64A-4574-BF4A-B16A3673F31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2CFF3E8C-0053-4B0A-B3F2-52AA7C2F1C1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2399553-A823-40DC-BD34-E85CD43B4C4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8711689-112F-402D-9101-87A1ACF9FBA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80A3AEB-96DB-477C-AB3E-48B135E2248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C315E9A-B836-45E1-A9D8-BF8853E94FA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763CEA3-9AD0-4045-B83B-41D24CDAED0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E7A4DDE-7805-400E-86B2-65151238ABC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75BF825-3D8F-4CF4-A59E-CB4106343B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E4B7C53-4845-4A00-A85C-05FA57D3A5D2}"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6D42934-50B6-47E6-B090-1EC63AA87E0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218AF02-E6D0-481E-979E-7E5B725B3E6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0454365-C4FF-4A7A-9AD0-08D423E34DC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3EC5B8B-3239-47CE-909E-FE58E2C7E60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A350B0DC-3702-4CE1-962A-FEA1080DDB5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9C3456F-B643-4137-8A6C-857E633AE42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3AC52C17-9A56-49B3-92D0-A94A777258D0}"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B57EF2D-DEEA-45E8-A490-57C596F63BFF}"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5AF40CBB-ED2D-4546-A590-4B6AAB71A7D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3D1F0F9B-BDBC-44C6-86D1-1B34A0E463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9882864-0310-4FF9-868C-F50779998F5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98A4EFE2-0701-4B22-9587-26D1CB43FB3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41351FD-A3FC-4541-AB8F-09CB29683A29}"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08755B7-1853-40BF-B4B2-63B523909FBA}"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C986134-6AA9-4295-80CC-D0CEAB9F8BA5}"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614AA187-299C-4DA8-BC78-DB71EC2230F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DB2E83BA-C2E6-4D11-9D4A-B5A28F6A4ABC}"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3B86637F-5811-4D18-A889-62555730CCBA}"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5D9AF62-98ED-4B1B-8E78-DC70AF64F5E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4E42232B-D128-4471-B7DD-776319A64812}"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6CD89A70-DE1F-4A49-8102-A9C96D33A9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19E8AA1-5F3A-4494-ABBC-16A65B3A0CF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6F70A11D-5E43-427F-B96B-CAF7D60E1D9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157C1321-7D2A-4427-A58C-2F757A1884C4}"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1BAF7F4E-86A0-4CE1-9EF3-C51F67DB513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9DC194D-EC54-4572-8AD3-3B01E81DDA91}"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66F447E-CB3F-4306-B36F-C6001A3112EC}"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8E702523-D519-46B9-9441-8737A368C0E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A2A7CC34-0DBD-40F1-A5E2-395CCF9BCC17}"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5CCF33B6-4A1F-496A-943D-DD051E54646A}"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A0658A31-4273-4010-88CF-1F690760D1B5}"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2C0C0E9-AE06-4637-B482-5E430EBD730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2ACC486-5D4F-4295-B7C7-40186F05C9E3}"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A27D4A7B-5983-472F-86E8-DE25F6A97F08}"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3D09FDA6-7B2A-4E4A-9AFA-C758F09C6046}"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C9718E19-0A50-4AFA-BE62-07D90B0FA19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E3F49107-46B0-41F4-B41F-B3021DC03436}"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46D20F41-5A97-4C61-974D-4C683B08A421}"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508D5457-07C5-4A28-86F7-62C3B6C4CA00}"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8690AF6-845B-4842-8CB4-B513D991E086}"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FF2D6CD-B96C-4096-A811-4A57C9D73F3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51BC4D4-DBBF-4A8F-8DBE-00BD620D2CE3}"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4F899E4A-B636-4EB3-AD38-5E62A08657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A28F9E0-36DC-4225-8639-E274B30CC24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6B44219-0EAB-44D0-8917-E500C8590D0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CF51632D-906C-4531-B315-636BD250B4C3}"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B4DECA2-262E-48C1-AD27-AF4A0E1AA2FE}"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833F2AB-F1B9-4CE4-8A89-BBB056398D9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BC9A992-B340-4CA5-971D-A9BD8DA96757}"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E062892F-5E3F-4942-AD8F-1318181AD377}"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E6405EBF-D843-4B58-8936-2D4651DD689E}"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11E9E1F-A860-4622-9A89-2F07529560D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64857B9C-5A03-45AD-8264-2AD8DCDCF6D6}"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3A4EBCB1-3D58-4E67-B4D1-C92228AC52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06758B-2D14-4AF8-89A5-25EB73DEE1FC}"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72B97E5-8CB0-4E57-A676-863BA9268BC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B9BBB1A4-57D0-4C77-A074-B2C138696CC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EB21C8FF-8A3D-475D-8334-B5A0D2346A8C}"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76C9432-F4C3-4165-8C0D-FCA43A746BB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92E744C-4952-4DB9-AFB8-9A9E0FA38C38}"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E4E5823-CD60-4D89-BC41-02ADA28A5589}"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2E7B9C62-839C-4CFD-95EA-D70256515AD8}"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2FE7A7E1-2238-477E-92F6-6D82D5420C44}"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877551CE-1076-417F-8870-29355FB63CE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D50552A-A9CB-45C3-8C98-C547F6871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31BA5DD-B758-4170-8038-33A1E4B236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4B5B2C6-60B3-4562-968D-46CFE967065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C3372FC4-2FD6-4D77-9ED2-C6AF1774AD3C}"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8557949-DAF2-43A4-86D8-295F35BC597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F2B6D83D-3426-4C48-B6B5-5614AE79C6B3}"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70BBC0DD-6609-498A-BEFE-3A4ABA998D11}"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11BE53F5-09FC-426E-90A1-537C12C56F97}"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A04D9460-2F85-4078-949F-E995426209BB}"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02601BFE-20DA-45C5-B5FC-60871AA1B202}"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0656D7E-3314-46E3-BECF-1BB17952860D}"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61E7B80-466E-4914-9B7B-89FC8D73BE7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6C387A35-BE15-493A-91A9-781252FCEA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077EF3B-FC17-4C4F-9655-114232FC33F7}"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9B9754C6-547D-4512-B11F-262D3AC43AE4}"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74E3C02-2A0D-4905-96EA-FC2EF0419FA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B66941A-3E75-4420-9CDE-E3E6EF5A62E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84B470F-2574-4A6B-9155-6A8996E8341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6FDC96D-2C8C-44D8-8AF4-D21C07C3E622}"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FCAA86EE-C480-45EC-AC9B-0A3ADA7BD14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A8FB21EA-5ED4-4068-A3F3-710EE8D5C786}"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4ABF62F2-C197-498A-A333-2D1C18A9305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2417AAE6-D20C-48AE-813A-4F23EEC93913}"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BB77A28-4FAF-4627-A4C9-BDAA625B5A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86D21AD-5946-4E7E-8D64-9AD11C705C73}"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95B21E9A-C7BF-4ADC-8670-406978640179}"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79112467-8AC6-4CB4-BD9E-F0AD0BCB6178}"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5F61861F-2353-45FD-AB28-14995F70748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3B7ADB3-201F-442A-B8CB-E6D60A97B3D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C55EE79A-CE3A-47F7-B57B-445994129602}"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63A512C-361E-4B01-8A5E-17392085BF5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29D4087-9D05-44D0-AC1D-503FD99A9A70}"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E8D7D29F-BBCF-4D83-BFB5-4273BE4E7BB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031FA1C5-B303-4AC1-90DF-8EBB43D38FB3}"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A8D5A85D-9470-4818-BB14-1895D6B335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1381957-E332-4628-9948-7EEE085BF01C}"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52AC7BC-4591-4884-BD2A-889B015FDE68}"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222B8AE0-FCCF-4CDD-9D4F-CE4D5521C7B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631275C-30CB-4208-8A29-99D9B5E10A87}"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239E2A49-5579-4687-A5DF-98EB679601B0}"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FF9D4613-E96B-41B8-A577-DDB43AA1F32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F7F3017-B571-4414-BFC4-C22BB97902D9}"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430DC12-6958-4796-AA7A-3E2B52A22120}"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61EC290A-1DCA-43CE-86C7-7C5E63098E38}"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E94E0CB-5B12-4A5C-9738-CBAB57828929}"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137796EC-06AA-437C-BE38-426BDC5EDFB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3AB50D1-E2DB-4FBA-8103-DDDB9CDDB802}"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D2968B4-7813-46C0-8048-137682545E19}"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DBEA1625-0717-4058-9F9E-0A3B15F6749F}"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6164A62A-EC15-43AD-B0F5-1A593B04A9F8}"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0E6946A3-19EE-4C7B-AE00-DDC22629AAA1}"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1291B00-9555-467F-B9CC-816AE7E62006}"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3D7AD7A2-C37E-4799-A06B-754781195DD6}"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150056B4-2611-4EBD-B042-CD5EB6C280F7}"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693EC21-58AC-4C48-93F8-01A2B1E991A1}"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6453D03-2E71-4BEF-9AB8-97844A319FE4}"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F39E6690-AADE-4A09-AEAA-8F0774BBD8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B4F14FD-23C2-43CC-82F2-B509D6B21ED6}"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0F3854C2-C08E-4E00-BE39-C2E39DF6F59D}"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BC2E4080-3DA9-4D72-81C4-BE42B3BC4421}"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C1D29A44-C1CA-4ECF-9B3D-7DB1B62B7F56}"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F2B6EFB7-FA7C-46D6-926F-4B86661EB1A4}"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79734687-13BE-4A0A-A46D-A908E2261B3E}"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524F3122-E1F7-48EF-8050-C6B3892D5115}"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4F67263-8750-438E-8262-A57E4183B1F4}"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FD3AF8CF-6A45-4BA1-AF5A-53B9B0A4F03F}"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811431DE-8D7A-4126-9EE2-C403B37F0C61}"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26A8B3D-E490-41C9-859F-643F53331D6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2B54106-BE99-473F-BE05-C9FDE91DD823}"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6941819-5BB5-4341-8D27-71E5DD639B0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433CE5C-08FD-4667-AD6A-8E06C21FE4C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AABD51D1-3B2B-4FE4-B794-926DACAB8420}"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F8F4F6C5-9733-4745-9EF6-591BAB26A33A}"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20D29E8D-7B32-49F1-BFF9-18130DCC9867}"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646E034F-0CBA-4AC1-B0EF-C223C0E208E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9BC999B9-EB71-4C88-B32F-B793A22E931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48524B0E-B906-49CA-851F-3C4D1AFE4106}"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2072ECF3-6A85-493F-A0D3-04D69B6A1F66}"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A4111A6D-0A1B-4F16-B681-93FC22AE95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1650A90-5638-47FE-8FF6-0895502369F0}"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D9DB8FB0-EF77-4014-93D4-AC00092C2D8B}"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4FAD3F1-D3A7-45CA-83DE-18A6A486DC1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799EEE1-CD6A-47EA-9BFB-2C3E75345F9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9551BFC-51FD-43E7-A360-5D5F2DFB2415}"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59878699-55FD-4483-9C01-F8E5D6719C56}"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7A8EDEF7-2402-4450-A747-DCD9CD14DA91}"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1D81FDC8-CB7D-4834-BC45-BA34CB1A7D6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3E75862-ACAB-48FA-BB7B-8DABBA860DF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9F4A5589-0799-4549-B700-EE3DAB31D89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76B9D45D-63AB-4E33-9E5F-E74D59F07B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C5B9BD1-717A-4EDF-A3E6-4C1AEE764BF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2EE10B2-3C42-4497-AC71-8D99953BF2D8}"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09D43A39-ADB5-4E24-8C45-86F68CC67BA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B9584859-D17A-4E95-BF72-29F1AF23F510}"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148D994-1BD4-4BE6-ABB0-ECADD3421D4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EEDF3BC-3543-4E57-9D8D-C88826CABA4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E1EDAA5-0880-4E24-BC1B-3922D657AD0C}"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D56ABCD-0A49-40E8-A05C-6311971A8289}"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3F46496C-81B4-4465-9FA8-B3319F7EC5A1}"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6C8C4453-FDE9-4E23-96C5-9F9CD6726FD6}"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7C5058E-0CE2-458A-B02D-3CD3D9B2B7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5B40E98-AB55-4D3D-8941-A28E9D9188D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4E65F3D-D864-4EA3-8F07-A0C7AD3B2F9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83B9D3B5-ADB1-45F5-A1E7-94D2157B282B}"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8C4DF20F-4798-4C82-80A6-7859490979F5}"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FA93FA9E-B783-4AD4-9075-87F37E280241}"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E8A5C282-F98A-4723-96E1-48EFCA2A86B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2F28CA7-8E42-435B-B3D2-FAE5A27E4D8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E309C6A3-DFEC-4208-81B6-33B2251E1ACF}"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3BFE71B-9F72-4CD4-94C0-4B08C4F8DE7B}"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DB183ACF-942A-4726-AC2C-D3C456B003B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427A55FC-7F20-4E83-AE90-3F657DBC3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98EF27F-26C4-44CE-A472-6699A19831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FEE0AF0-8998-4777-9544-ACFF2B37DAB2}"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A470CA41-2EF1-4D62-8D62-6A761A2549B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9C24F55A-3EE1-44D4-B929-1FC978341100}"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F513DF2-6EAB-445E-87EF-CE0EBCF17F9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01FFC31A-6D32-4C32-A7F5-2C3556E4169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22740EA-64D1-493E-84DA-73E6D45CA844}"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E1E4C945-DA32-4D5D-8919-321F705935F0}"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3788C86F-DE32-41F8-AA2A-E49AB00662A2}"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0FF8718-39E7-41F7-AE9C-97C1258FE640}"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AE2D92B7-1E15-44E3-A8E6-553198ADF9B5}"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05995E1-CADD-4A99-BBDB-01E57AAC990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4DAD6A-856F-40FE-AD0A-9762EAD961FB}"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AB79423D-1887-495E-ABD6-5736B9A9F4B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A4076B23-9C1A-4EE7-AFE9-90B940426B31}"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83806343-C6B4-4098-B25B-A09D7AF77ED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BC293BFE-3613-435D-B476-A9C53E97101B}"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7A1226F7-93C4-495E-BEEA-219A18C75056}"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15A89150-7F2B-4B1C-8EF4-41AF716477A0}"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7F9896CD-EA5B-4B74-BF3E-D30331802F6F}"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019D8105-CFFD-4DA6-A95B-6F60639FE9A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7AF9F46D-6939-49BF-952E-2588D9480809}"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F7452F4-C14F-4661-ABFA-B9A599C70A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62655A0-4F28-4FD5-A97E-60023CEAE7E4}"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A64D846-6A4F-4775-8CA7-240DFC7C55CC}"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010ED0FC-53CB-4763-93B5-9F1B5C7E25B0}"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76D38809-D116-436A-BC96-9F5E3B8B376C}"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36D6F127-5547-404A-BC98-BDADAFF44D75}"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31A002FD-2BB4-4152-B20B-5144CC396304}"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336AEBB-AE0A-4118-B980-57F71ECDA5C8}"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D7114F5-BC4C-42FC-81D9-CE79A41DB929}"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0B54C6E7-D898-4A5F-AC36-561B50A5351A}"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07A9289-18B1-4E51-BC51-B8E00E9E7AB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8FDDFEFD-BDA9-42A3-B25B-BE64A69400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2644A16-720F-4C13-9228-389EA69A7F9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70F4EAE2-0687-45EA-9683-F39858B27890}"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FEEC520-07C4-4116-AF62-0EBCC51AD23A}"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3D37167-7DE5-47D0-870C-7267C0399DA5}"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B792A63-2E2F-494F-B203-A7B2352E36DB}"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E7EB774-B87E-4CFC-8864-59121487D3CF}"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E8A4F3D-9E89-4FC0-A45E-A0C06D35DB50}"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C59497FC-16F0-4D90-85D5-0C2B8E054FB5}"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E3CB52A-DC69-454C-8EA4-5FE949CDE216}"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95919149-4354-4320-AB10-B357931EF1DB}"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3E80090F-45CE-4BF7-A07F-EF00887AD7D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B812399-E9FC-4BF1-9866-CB8B9F39964C}"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B414AC34-50BE-4A2F-B243-67E8ADF59D2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F77F66AA-52BB-4FAF-96C5-E6CAF83ECA79}"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8EC43414-5013-47DA-B2CE-5381E332D127}"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A940886-EEC9-4EE0-B47D-9B803A7017F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DDF0656-4373-45CC-856B-3D50E939843E}"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EDBDBCD7-93F9-4A45-8CEA-D5D825B85C30}"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5BB4C9B9-1164-4916-9A56-1465A3065705}"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67218332-2D37-44E1-8ADD-6525CB0997DB}"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AE2D8607-64C0-47D1-9D1E-51A024EED97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2167195E-B14E-4358-B381-24209CDB70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7B9EF92-5A6A-4775-B673-CC112F0EDB64}"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2E1FE66-6453-42AD-9B42-3145428C5FAB}"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4566024B-4949-4403-8994-4500A4AF8F0B}"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187AA7B-0D26-4F66-92A4-DC849B6F548B}"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841C07C4-FFC9-42DA-A73E-71AAB4B1F1A3}"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BB5179D1-6A57-41D9-8FC5-24123D3844AF}"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0220F60-55BF-41EA-ACDE-714024E71312}"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32ED2F9F-DED6-4B47-86A5-F92716C08B10}"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97C3AFD-BBD0-49F1-BBFD-3AAA8B4285D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FA1BEA6A-3FA6-4AA6-A13C-3305FD995943}"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F67C1BED-818F-4390-AE11-5C30D0E5DB0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BF9D55C-0B79-456E-8A56-2BA4CBABA546}"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FD189118-91F3-4E04-B700-DD1E27EE6C05}"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CAEBE6A7-3EF2-4CA8-A92F-E34FCEEBABB3}"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20164BE7-BCEA-4EF5-AF95-049BAA850A8F}"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746D7302-3725-4230-83A6-F47561214809}"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A9DA19BB-C082-4BD3-8838-04E6220FAEA9}"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318BC83B-9E89-4117-9327-4495BCF3DC0F}"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7E0C3D88-B568-4412-838B-44C9E55F7329}"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A894484C-6C4D-415B-A0BC-E34FEC05E43D}"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C0B1688-72ED-4F74-ADC3-379CFD1DA1EA}"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76866976-CFF4-4DB9-8FB1-4DD1A866877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FE908E7-3800-4C19-B4B0-AF62F64D3D6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A3537195-1686-4715-BAAF-6E2CD3F8FB8E}"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92A311E7-A10E-42A2-A1BF-C8EC9B004C51}"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17829165-4D22-43E7-B2DF-58EA0D9AA1FB}"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EF8526AC-C394-4CF8-A598-01918CEF256D}"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5B8C51C0-6A8E-4F90-934C-80C2632A0006}"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3FAEC2CD-30B9-495E-882C-8668A61F633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FAF331F-4AEE-4D77-924D-5BED2A77316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A8EAD026-0F20-490E-89A8-D19843410BBA}"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E1ACEE7A-A6ED-4AC1-A035-1830E68F3328}"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D1548B9-1A01-4B80-8EFB-5FCD70C9E3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7E36176-1931-46F3-8B56-AD44EDA59F9F}"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A4BED32-ED04-4AA2-892F-082574CC0E25}"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1C9A87E-F227-44AA-BE67-DA1D02FBF630}"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349B1F3-6316-4914-BBA4-853BD948B249}"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2254CB03-7920-40A4-96AF-28426476677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D91A7714-FD30-4FB3-8987-CEC37CB27D71}"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A942ABBE-5B39-44A7-9E63-572DE07940A3}"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1A1D0991-15E9-4598-8391-FDA9595F3F56}"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E5CFF339-3643-48D3-BC4E-7EE44632AD55}"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E2F52D76-96D8-45B3-8BB2-1DD6D32EA76A}"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AD7402D4-5053-48F5-A26B-64D447093A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34CD4F5-996B-4ED6-81AC-E6D11C295F53}"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7C5CB918-E05F-40DE-B536-EA155DC724E5}"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60C5F4D-37D2-4042-9CC7-15A2A22CB3F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58163BE-63F5-48FA-B6DC-49AFC7AEA58D}"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EA26138-3C8F-4796-92C9-F99E875A7DF9}"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C69074C3-CCB7-4339-B846-FBF49A715E3B}"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CE7057C5-8797-4780-9FD5-EF80371EED99}"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A5A4E47D-3F29-4843-945A-6500BE3A2137}"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4461F6C9-5D76-4314-812A-BA90D6E0F62D}"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7F31FA0F-35ED-4853-AD30-711CB4CF2A7F}"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FDBE405A-335B-4A61-8654-1D121396B2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C037B55-AD0A-4143-B19E-D9683134F2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29F8F4F-3AD1-41FC-B4F2-EDFFC7F6D08D}"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5804CCA6-59EE-43BA-97C9-8B97310DEFCA}"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C537C852-AE54-47C0-950D-FF885E0EF038}"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F054C6B9-11A7-4ADD-B237-E94488A0727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F3189C1-5EF0-48E6-B970-C9856526501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6714CB37-4BB9-413B-943B-23FF26612F9F}"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F7B8E7E-CA35-4CD5-80DB-2E501E237B63}"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0B003319-21AE-4B81-B529-59C8CDFC59D0}"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B18E8DC9-F64F-4FA6-97C6-C5C1F69674EA}"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BFB5F1B3-EA6E-4D91-AFE7-59F636C0E3BF}"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9677FCD0-9B3B-4F1D-93EA-44D9900A87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AF9869B-54E5-4FE1-A987-DF01B06E15DC}"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C9A27CC-C734-4572-A164-A69C5340920A}"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24713D06-2D26-4E49-9B78-764DA93C8A16}"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EC4F181-DF1C-401F-B23F-E9004AAA6C33}"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AB100B50-EC0B-4E0E-9D16-9CD2443EC66B}"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D9E07042-AB17-4C3E-A209-D932A083E119}"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57D69E13-8380-486B-A317-C1F28A2A4675}"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30C21E8-E340-48CE-BF26-06032DA2EDCF}"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2677FDE-17BC-4D4F-94F5-FEE2DB5643EB}"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1617C38A-F47E-4501-BCDC-1C18170CB964}"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A0D744E9-A967-4AE7-83D5-25259D4CE87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F8009DD-F46C-4216-97AD-740CF0A3832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CABD4F55-8625-4C1D-AF29-1B0844A4AE34}"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4A7B4AF8-705F-4468-9DAE-9B349F194547}"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38861D66-22E0-461E-86CA-D88B428E733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AC2E3823-DB8D-4198-8C86-0930538F58B7}"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193BD5A8-C4B3-4D7B-BB7F-556CE18F3395}"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E3850E24-08CF-42C9-A907-BEED989051F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30B50BD1-472D-43C3-85B0-3978004E9607}"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78B0C79-D24E-4B62-8FFB-D5A60C3CF588}"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8B175CB-C629-4A14-B8F1-E374ED6DDA0B}"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64F6FCE-2B06-45D9-B7B6-8AE11518932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6114738-86BF-40FC-9667-08743B301F2E}"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4C9EA9BE-AB01-4413-8543-09FCE24012CD}"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D6EB441-9140-4BE6-94D2-7CDF832557D0}"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ED347865-7B33-4C06-B8D0-09670AD98A82}"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944BFC71-0DFD-4A3A-BCFC-C0653206D7F6}"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31708DBB-E80A-4348-B402-333CF17A52D3}"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BA6A265-2196-4F78-AF60-85A8BB5B908E}"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E44480C-A52C-4EB8-8108-DD5473CA99D7}"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DAD3CD22-6A84-4D0A-8590-1D3D43D8657E}"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C9C85711-EEB0-45C3-ABDF-60DF6F55E40B}"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69515320-59A7-4FA8-82D1-2C24E1A7B5F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A42932A-F6ED-4B3C-8620-DE6EBB83CC07}"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92084CA1-A0EE-41BA-AC84-92B5FB54255D}"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DAEDEFB-79AD-4C0F-880A-9C942DDF7F6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2F0911FF-706A-4121-9BD2-5512CFDD7FA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83484877-BE78-4CAB-95F9-D0317BC58190}"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4EC62686-F221-490F-BAD8-C8B0E176D0E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98F45844-07D7-4CD2-ABF9-FC941EDB490B}"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67B8735D-83E6-4CE8-95D3-22122926CDBA}"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04CBBE4-3AD3-4C52-B6A5-1A2634E6539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61C20A1E-3ACD-423A-9232-004F38247FC9}"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BDC73017-B507-443E-9915-8EE6AE3120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444DA7B-4E13-4C64-AC9A-3E0750581E23}"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FFFE5F31-254E-4D46-AB8D-9F1F6309B52F}"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3144780D-E5CB-4BF4-84CE-16242693EAB2}"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CDC53035-A703-4024-BEBC-DC5609114F6D}"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5DA4354-DC41-42D0-B29E-819ED1F6321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6E35420C-0662-4DC5-B08B-172437354B2E}"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077B3A54-C017-4C63-951B-9393A3F6059A}"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BE0D2988-549F-47F6-98F8-6855DE5785F5}"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104D3C3A-7DE1-4D3F-BF8A-86C4C823114F}"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39EC492E-D828-4716-817E-BB593A46DF7C}"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36FEF575-C14A-40B0-B952-6CE0771EAF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E7B35D0-6570-48CD-9453-B363A75D8342}"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C6AA897-DE95-448F-B700-6BD0A942849C}"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3E15F75B-925C-408A-B52C-62722400A33B}"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073FA960-6B8F-4BF7-BF56-F38D22AC5857}"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CF25958A-F61E-42B0-85FE-1848BD89E509}"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B462DC0-4CEF-4778-AFF4-7BD069DDC527}"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9A90D7DA-9DB3-4524-BF1C-ECB46F3C52A1}"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65329ECC-E96A-4760-845C-976C49D5FBC8}"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A5FE9165-AE95-47B9-91D8-E7B36C29B5C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238A1A51-E12B-468D-9082-4C5AE44E6109}"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026DCC61-0C12-4276-AFF8-5D7D4A624E4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7FF6784-CC06-47DF-A1F0-82999B0898BC}"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DF768405-CE06-44C5-B9F5-1580CFB8B0D9}"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36760FC4-B8FB-486F-8254-FF7CF865629B}"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EB94CFBD-B7C2-4107-BAD3-63E9F4D472F3}"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FAA0A1C6-AD75-4B0B-9EC5-08A3AA04E6F7}"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6530F274-3B36-4BF3-AAE4-5716E6A855FD}"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EF3F8D3-F59E-4F96-A905-B4081F901FEC}"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538448E-7576-41BA-9352-70CF1B828C4E}"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163DADF-29EC-410F-9A84-ECCE90F2E61E}"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AE2CF7D4-3D05-44A8-A58C-0435C36A2E73}"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92B42AD-D6BB-400C-909F-AB5CFB2A18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13CEDD0-9605-40A7-9550-E248A6791D4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E92E3A2C-5554-4A94-BDC5-6001EF77FF2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A7B7FD7E-BF10-4968-A368-48DE22E616E3}"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AA9891A7-2970-40DD-A441-EFAE1AB9D8E1}"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1293CEF6-C574-4DE7-9C14-A145FE36F04C}"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101597AA-A10E-4920-96EF-B98C84A6FF54}"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478EC57C-6EC4-45A8-97C9-14224F70FB5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E69BEFEC-230B-4B72-BD00-4BBB08905C88}"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5C1299ED-F550-4898-BD9D-F3D5B67128C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9FA94FF-4EFE-4E40-9524-FE50CF54E1A0}"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C23D5AD-C3C7-4690-A652-60330A2F17C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7A34455-CA0C-465B-BF25-D39249772C7C}"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E8AFE27-2F69-4AB1-AB0F-B9745018419F}"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0D7F9355-E971-478C-B5AE-0A9E832E612B}"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4BF7264F-4913-4C88-ADED-CDDEAE198DFF}"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1FA2B3C2-FFA4-4819-9E24-ADD3E742B556}"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6ECF176E-5EE3-47C0-96AE-5F9899552C4B}"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7AE1BBC4-9E26-473E-AA4C-F8C7964D61A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03EF9D55-7FDD-434A-9650-B74CC0DCEE01}"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314AC37F-C4D9-4BEF-A443-33E78962C980}"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82CACAE6-7C67-4706-B2E4-5099C0B1EBF9}"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88E67611-B52B-431D-9CD2-E89ADCB23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0DC5E97-FE6B-4B99-BAAA-D7CA0103E6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E2C1A37-56D4-4452-88DB-542C957A9EC0}"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E2322579-5E85-4265-ADB5-DC724377C671}"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468C1DE-B9C7-4BB2-A672-08F2DFAE5118}"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DE6DFE5D-B55F-4FD2-8C82-0F2CA19C928C}"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3331A0A-7096-4935-AF11-7B207530A0E9}"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89786A13-124D-4A68-A1B6-6EE6053FAFC9}"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5A5ACEA1-A23E-414A-93BA-77C36CE2D504}"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5C8A8A3E-77DA-48EB-BB11-51CAC8A94581}"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88B854F2-0D05-4B99-92CE-B5BF14BEE7D7}"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FE7363E5-B7E7-475D-8719-6A7DB4A0B19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91A2A42F-B371-4774-BA5F-3AA5529C90E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31B27A3-21EB-4BF5-AC7D-4BE6C74B43B4}"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61BB2D83-97BA-4DAA-A563-C0F504B4E6B2}"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71CBE0F-3AD5-437B-8AB5-5C05D3528574}"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CF0EF81-94A0-41BD-979B-EE432549EA5D}"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BB777DC-18A7-48C2-B84A-9A64E853F5D0}"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BF2013E-A3E4-44A2-BD2A-898F37E46B25}"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B9C59A42-2C21-4883-8E24-DC5D21BD69CC}"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ECDDFB9F-D22B-40BA-BF1F-77EE2D69BA2C}"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CBB4E561-220B-4468-8FFC-1B86CA9B62A8}"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8C4AECA4-3E39-453C-ACBB-1DFD3786C35E}"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F5F0E3BF-2898-4B4C-9DC3-D2ED0BF4FF3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C376DD6-E2E6-4A90-B459-B01964288F71}"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C6845633-941E-4172-A973-0FDD4E9D1314}"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916DEFB2-47F2-4AEF-9445-D7BA10808196}"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3B73AA14-6711-4C34-9620-FCEF4E7CD9FD}"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117C187-70DA-4E43-9CE2-B9C59B1CC523}"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683E0A0-BCE3-4372-AA87-161360B6143A}"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3772B0C-1EAC-4383-B81F-C919013E0752}"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9FA65A34-4AFA-4C8C-8AC6-C70EC3C2A636}"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DFA8D7F4-270D-4D34-8BE3-A2677C4A651E}"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3AC09C76-2CBC-460E-9BB7-30601CC3AED7}"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FA06AC8B-FF36-4A23-8F0E-7602F2EE1AA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DEB3877-8731-46D1-8802-B547BCAE54E3}"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22B99335-2845-46CE-A660-AE1E51C10403}"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E4066BB-7384-47B7-AABF-F239BB6372A5}"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0FF2E1C9-CAB8-4E00-A340-910FCCA066FF}"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2E3C4EA5-8C44-4409-B74D-2B05525DCB60}"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3413ADE0-984E-4F55-A9E5-C4A696D5136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C4DD721D-26ED-47C7-A9EF-6E86097E0F15}"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30AA2DCA-B8B3-4D40-8A01-2429293FFF33}"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53D7F3C-014A-4372-BF54-6F8E31AFF0BB}"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8F74759-67DC-4D7C-B443-EA328BF391BE}"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73DDF879-7938-499E-9DC8-55848EAAB5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1FEA130-4A26-411B-87BA-D6BCCB99835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786AEF98-683C-43E4-93EF-6D8E5C665E32}"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8281E2B7-2150-46AD-AA1C-FE77F4D4DF05}"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1E0F4BAE-407C-41D0-8407-960955E197B1}"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7EAA9B87-E9C5-4FB3-AEF3-9E55B3E2DDE8}"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C8456F7F-4763-4676-A5C5-CC8DBCE31372}"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53A80744-940B-4B66-B7EA-1BD0D9EBF137}"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EBFB5067-D5E6-4C9C-A9BD-CFF427998041}"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36FBB68-1613-49A2-A280-CFA4843313E3}"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E2408B8-E212-4590-9A31-17BE5A296A6B}"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B5A827B-769F-4E9C-BEE3-B362CDB37A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205759-8D73-4E01-A37D-D754CD454AD9}"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D86811B6-7196-45B4-BC89-BDA252766137}"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85FC0FA0-9438-4663-9A22-99579F543679}"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91FA89A7-B4E0-4BBD-A4A8-81362C985F6F}"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C91BE775-FD1E-43C3-872E-85705E2EFDAE}"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5F315AC8-D2EE-4AE5-9CA6-CC1FB8213398}"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AA9AFE6D-B8C6-4678-93D4-31AE6C64E4CB}"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5F104C22-F044-4F7A-99CA-6AEA98BA0CFD}"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DCF56754-24D5-495F-BE99-614980473128}"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15F016C0-2385-40D8-A168-221693A2C918}"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62368E9A-6514-4232-9290-A4B684ECE5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9D044E1-C716-4913-B0E4-4B9DEE338C7A}"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FEE1AC52-12D2-4489-B88E-1A9A1678C7CB}"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F8BAB47-6EBF-4DF8-B9BF-83398AA0876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43A2E3F1-4A29-4865-96F8-54EFF4BFA09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99BFE0A0-20D5-4E8A-AE0D-BA47F61110BF}"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8E67573A-B422-4D68-96A5-8B0462890B8B}"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2C343F4D-B019-4FD5-9129-7516ED85895C}"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05F61755-1F68-4149-A89C-12412C9EB146}"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29380B73-0E3C-4AB0-AAA9-D3026A4365C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F3818F08-F2AF-4F1B-997D-909115F3C191}"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B2614447-C2EC-4FA5-84F2-E10F375FD79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83A9735-041F-4AAA-9E21-56A0924A7450}"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00E6D404-9DB8-4C24-83BB-FEA9FC34E788}"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ED11AF7-6F75-4C23-83A1-520FE08D0C08}"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8E6D231-205E-4387-B243-B9615452817B}"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108ABA0-9ADF-420E-9D8E-FAAFBA18E63E}"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5DD35619-162D-4707-88D2-40F5A66C4399}"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8E291F33-4667-4C9E-9E2B-E35C43BBF350}"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68893B6A-204E-43B9-B1DD-46F45BA4C896}"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A288A665-D6EB-4CD2-94DD-D0133A81521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F8F2BB47-8ACD-4D18-85B3-B9C37B14C08B}"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44EAB0E1-7A09-431F-9B2A-D2364DA878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691717A-D024-4BF0-9DC9-643E5B94DD4E}"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3AAA1375-929D-4022-AE79-84B5EFDA2DD2}"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78074F3D-282D-40AD-A44B-DF39CFADC712}"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CC165FB5-F1F7-4D96-9618-CEBADC261ED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6C59EEF-2391-4414-9C59-2F397245DD4E}"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C3515770-EC18-48A3-AB9F-01D664A0B7CB}"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BF943681-A732-4465-9E5E-EBF9AC037A9B}"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76DAC808-02BA-418B-B96C-0C93F0DE0F72}"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AE3C8E34-C7A0-494F-BD38-D4641CDBAB5A}"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BF66E74A-49F0-4B5A-A7B6-4BCA90C6FC95}"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E3EB8EDC-4848-485B-906E-B948E9D77D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393B841-7EE1-424A-8760-C5F05086C344}"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F1B402D6-F182-47B5-81F7-972DB5F6025F}"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9BA42381-8CB9-4B5D-8C61-226CC10477E5}"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8E293D32-EBBB-4344-810A-078712DF6995}"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A66AE211-C008-4EF6-9C1A-6FCE502FCB3D}"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0A24BEB4-6B67-42EB-BB73-A628618F5EA8}"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8A45B63-F9D9-42E7-9286-A4A99EF2F71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4928A71-5918-48AE-8AD0-AE214C1F4495}"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DAFDD40-DE1E-47DC-AD4A-1FC54E365506}"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E098B44A-BBA4-4895-81C4-177BBE248799}"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FDF2CBA-F866-40D7-AF32-A0432DCCF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D69740C-3B48-4E8C-8070-E1A2E06311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C87EB16-F828-462E-8C66-4EA89BB1F609}"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1DC0EDEE-4EBC-42AF-9735-F707F546D6F2}"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BE6867CE-DEB9-4BB1-A0B3-50A869497604}"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EE08C3E-219E-4114-BDA7-0C0F326AF6D8}"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D7BE2385-5311-4D07-9663-FDC630EF819C}"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194FD960-5F67-49C1-A410-E3D380C30834}"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2BCEB387-2BF2-4B46-8CD0-6ACA05A47B16}"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8AEF9A64-FB7F-49C5-8FC2-BC8EC1DB6B4B}"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B5E1AD4-0E35-42AD-AF21-77AE65A39338}"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737877D-9357-467F-A72F-AC91B97236CA}"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B164CA0-523E-49DA-AEFD-8323B2002F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41FAA9A-4521-44F6-8EE2-71423714B1BB}"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EBF0FC4-FDB2-403A-8EDF-C0AFE72312D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42FF8D38-8445-4715-BEAF-02B596C655C7}"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EF42D2FE-CC80-41ED-A07F-FB69DFC0E009}"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190E73A2-BDC0-42CB-ACD2-38D1C97B1628}"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595E6F40-D8CF-40D8-9880-F6BC45BC725D}"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DCC8CEFF-57F4-4987-A79B-E844EE0638D1}"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8E2F570-C76A-445C-8FB7-6633A8A9E577}"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6BF2ED9F-1623-41D1-9DC4-68159FD3724A}"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E4C66392-1247-42F8-8E71-6D31BB7003A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7B6D5163-6D4C-4ECA-A7AF-B415618970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FDA439A-A6A9-4E6F-9BB9-35DE80DA5929}"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B2FB09E-05EA-4DBE-A6A4-5C0C3372A7BA}"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615E68FA-D61D-45C1-AF6E-DA7E2A165227}"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650FFAAD-5EE7-4444-8DFD-7E3E3F147B71}"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DD705B2A-34A5-42AD-8406-820915980686}"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238D294F-D0E4-4018-9B09-49780DB95C13}"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B411C8DF-8D95-431D-8E46-7F134693F916}"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89125A5F-0200-492E-BC9E-447E2051E655}"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58478CD2-7873-45CD-B5E1-746F24EE9761}"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B3F1BC31-06AA-44CE-9EF1-8D8648C16BEB}"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5EAAD735-2BDD-4D57-AC33-52A9DCCB6E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92C9305-4895-4190-8BFB-26E4F4E23677}"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7E322981-E97C-4F51-AD0E-70FA463CCE11}"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7A6E9ACF-1CFA-48B6-920B-92A658970392}"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2C6CFC3-6185-42EC-A4DB-70403DD00240}"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D665976-68A0-4C1F-A8F8-3098ABE9070F}"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D11B8815-F580-4F25-B845-D3B67104FD32}"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932DA311-C1B1-4B07-952E-4D7198C6AF56}"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1AB7EBCD-9A33-4755-B0AF-DBF50EA95A12}"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34129AB2-01FA-4CA7-8ABD-D315244FBEC8}"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CEFF95D2-EF52-40A7-9A58-72F5CA258735}"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64E29920-5DBA-45BF-8262-9B600CF30F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B86D0E8-EAC8-4DAF-A79B-606CD8064BB1}"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DF87C6F-2893-49FE-AE62-CACDF5236CC9}"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BF98C30B-B34F-4DE3-9665-7061642FFE9E}"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03DC6927-4798-4DC2-8416-061F4766FCCA}"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E366DC7C-EF69-46C3-ACDF-33B8BDA6B724}"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DDC0BBE-6913-4B2D-8398-DC33E92144F4}"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F12B89F9-13B6-43DA-8D50-459C716BC164}"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53553BC-89E8-4253-B693-C079BF7FF146}"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29F94535-575A-4BB0-AD6A-DBF6D057F06C}"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BFA6A9E6-1C78-4970-B9F8-1750FFF06DA6}"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647EAC2A-4972-4B4C-BAE1-3C47BB2090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68BB969-83F6-4904-A554-5303E3AAFBD1}"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DF05B44-AFB0-474C-9806-39AD981C686A}"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7B6F3363-656F-4F22-BDDC-76D032F2E3CC}"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B664791B-77B5-4053-9B56-F606480AC8B6}"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2F8CF873-A9C1-4B62-AC00-DDB86E96EE3E}"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38EBF12B-CF51-4E2F-86D4-4399FE339F53}"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5C6DE9B4-154D-4F13-A1D7-1148717B212F}"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4ED35D07-8F98-405A-A324-1FB1FC6B6E1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F94B0C1F-16AE-41F2-9002-465461434A5B}"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FF22966-E4A9-4D0D-A0AD-F5968C155152}"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C303D7FF-20B2-47F8-82BC-4DC9C7EE12F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B181359-9857-4C6C-BA97-33CB58CD0E80}"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CC78B7AD-EC5C-4631-A10E-2A562F4FFCFE}"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5CF5901-3E2F-4403-AEB5-B8A8A3CF38CB}"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EC0D011-D837-4832-A62C-F46032D6D8D5}"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04B54A1-51A5-44CD-8F86-8BF40CB308F4}"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7514C5AB-4C89-4367-BA2D-F4DD89040A0A}"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E5A54ACB-D63F-4BBB-AB37-3AA3B145AE5D}"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98B41F08-4898-4883-AB4C-E2AB05903FFB}"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3C7E7C8D-B2F7-489E-8DB5-129372CD5EEC}"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CECBD156-F146-4C13-B3C9-3BF5E1BEA819}"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420D141-6125-466A-AB83-D120BC4918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C3238A-7374-4361-9E1D-4EAB9EEA0BD1}"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72C54CBB-DF7F-4001-A13B-DA6F575340C6}"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3F49808F-B2AA-4E34-BDF7-74DA1BABAE25}"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9CABFFDC-220F-4178-8170-FD655BF2C3B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4D9DF6E3-1DB7-4FC1-B04E-48E01AEC345C}"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63E008B-D7AA-42F3-A93E-3AC8A528DF19}"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3FE443E3-AA37-498D-8E0E-51C959106CC8}"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36756782-5026-42B6-B24D-BCA0B4B35D80}"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47FD8694-83FC-4FE7-80EE-B3BA69E5D01D}"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BBA54C9A-D08B-4F19-87BF-708BE58AD001}"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E91932CE-F52C-4FF2-BEBF-3EC917A976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0F610DF-C8FD-4F9B-9BC2-73BFD729E1A3}"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47DF9B1-88E9-4FD1-B1C9-CB54330392B1}"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6CC4257-41B6-4AFC-8C00-D5FD5D09B954}"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2CAFEF78-5FDD-46A2-9FEE-C7118B8999CD}"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C20B04CD-EF68-4AE2-BC24-1DCF77A7700F}"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CBB0FD35-03B4-4A21-9271-B040629331E7}"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AD0E9675-395A-4669-9CC6-2C0B5CFA3BCC}"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DA47CF4F-965C-4E72-8A6B-CB9BCC47F4BD}"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B8BC5DE-0C38-45E7-9C6D-9797B2D33E41}"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2CBB718E-531B-4BD1-82FF-A158F05C64CA}"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0A368871-0A5D-4120-92EA-8A676F7675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38D40DE-4C46-4341-9861-B80258834745}"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B83BEECA-84BB-445F-A44E-C1EA1FBD681E}"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EFD4D4D8-EF95-409A-9B72-4D508CA0F36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B6887161-8868-4C29-BBF9-28FA3F684173}"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B54501AA-8013-4FB3-8028-84A5F2368A11}"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8E4E9758-4172-4B72-972E-FD4F1CAD57F9}"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341B94DA-D58D-4B9E-BBE5-D9A6146DED6E}"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7921ADA6-0454-4AA7-9F01-AF116454395E}"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D50C0148-22A3-4FA3-8C1E-F27F87F3BBDC}"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111F28C9-81BF-480C-A583-E54F5E5E8DEF}"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03AB1E1-7F28-4EE4-91D0-FDB6ABA28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2E6E5-5669-4B83-BF84-56BA326E52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1D4AE-9C54-4C0D-BCF2-8B04C3BB2B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76489-1398-4ADE-B903-FB4E5DCADE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F515A-45A4-4B19-8A31-313DCC8DFC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C86AC-4B8A-4E9D-996E-B566D68AC9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4B4F3-5269-48F9-A7D7-B027D13A5A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0060B-5BC0-4776-B84C-9E391F3FB5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A0ACD-F83E-4C24-A505-13AE2A2820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80BDC-B5C3-45F4-BBF3-F62E20754C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D9C23-FE3F-434C-8A49-4A5D9E80D3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B7B1F-7698-4DFF-8157-E7FF7D6F66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06811-DEB6-4C26-A8AB-BC7B24E2D8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C89CA-3BA0-4038-951D-0771ABD266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B4B57-32DE-4DE5-91C5-7CCA73EA4F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26F90-2CB5-4BFB-9B85-122C5934A9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4E2AA-0AA5-4A06-AECB-9977920BB3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5F537-C013-4E69-BD21-2A7263E767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77060-6397-4EC1-9E38-71B0D90317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60F9C-EDCE-47A3-B410-047AA24484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41B71-25FA-46ED-9346-2AC79C3BDE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03578-B874-4EDD-A26D-F87F6B3604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750E1-A61A-40DD-8A05-9467259826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1D7DC-DD17-4BAC-9ED4-882E1491DB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B6A26-ED65-4EDB-B488-AC291DF839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9FFCA-655A-4B03-ADFD-5702CDFFEC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DB585-8040-4634-9803-E55DB21513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B6EBE-9AB7-4C43-A427-EB2DB44A50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90768-9643-4A09-A687-55064F6A02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BA7A6-B3C4-4637-A65F-FD991D4875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F2161-4498-4CA4-8537-9AECA855F8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35709-28CE-490F-896A-F2A3A9D4F6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9B2F1-139F-4163-86E5-81DA068722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DDA54-C6CB-47AE-AA56-DE3E5F9E96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023D2-C786-4EF7-9414-7218E26E5A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A3749-9C88-4656-B9F6-ED096589F81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6B729-1DA4-425D-B38E-7DAA5135B0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1FAFB-F18E-4805-90D9-F7FA8E1044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651AA-F039-444B-9975-8AAEE9E89E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C40A0-4237-4DB6-8600-4BDA300FBB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BDC73-29A4-4A41-B988-0CE1BEF05D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1760C-48B8-4B9F-A08D-9B95F33806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4BF0A-DA13-4B13-B090-18DBAAB09C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48A71-2C01-4F81-8402-6D5886FF79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96126-DF45-4617-82B4-3563A29A93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479F4-EE9B-4ACA-A178-5474F5C29A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8AD61-42AE-4124-90EC-E365BE0BF8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93CC1-9D32-4092-B753-3F5CADC689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29BD6-37CC-4B7E-B504-DE29A68AE2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E3603-CFC3-401D-8804-59E27B8F2C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916EE-145F-4D2F-B901-8B10BBD417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E570E-2A81-4C93-92D4-77D1B47FFE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19ACB-88F2-4406-BA53-8DBCB43255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F150A-FE56-4B70-A4A8-74509AE6EC5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4F178-363D-4C1B-9A92-553A0A95FD3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C4B74-0551-4FC7-AADA-E1CD2D5A0E2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FA074-619F-430B-8033-5BB7A6F494B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944ED4-19C5-4137-B9AB-037D1A4E00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F3E62-90B9-485D-95D2-4D731197282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1C8EA-6F19-477F-AFD1-ED6CF61BB53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038A2-74CB-4EB3-8C96-71FDBCC12DE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0C4EC-51DA-4138-9B07-60EEAE69DDC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8647C-789F-4CEA-A5A9-BD0815A548B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98BE3-E87E-4D60-9274-B5F49B8EC65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A8D61-C59E-44E0-8E48-54AF42A87E1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4ED2B-8622-443A-B84E-5CD652D22F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8EBC7-635B-4D81-9274-9BFFC3AE37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FB351-46BE-4A44-96F4-3502693463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7ECC5-CC2E-4FAB-9600-E6E8FED633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5F98F-FC06-4BCE-B124-AC1F9654F7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B5C59-C2F4-4676-BEA3-4B76F70C9C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84C4F-3B8B-479A-85DE-93274D200A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5E999-F3FA-45BF-AA38-85ED49FBBD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E7B5A-3565-4AA3-A2DB-720D8FF142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2646F-F239-41E1-AF67-3EBEE16F86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54C25-07D8-4E58-A10C-867EA57F42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D1AB7-56D6-4F44-A7D5-641605613B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64854-A176-43A6-AAEC-F7BA90F5B5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F38DD-5E3E-44DD-99C8-7D2A8D7E90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1E1F9-3484-4C4A-9FC8-8096E29A08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AF100-74CC-443F-BF0A-1EBEB6ACA1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78972-5035-40FD-8E76-624C870F6E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D21B1-C622-43CE-9FBD-C44AC7BB1D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57875-6B27-41D2-8CB0-B944970E69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A741B-50BE-47BB-AA4B-9D96FF01E9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8B13E-D144-41FF-872B-79CE114791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7602B-916C-440C-949D-37E6119C8B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05E4F-1D4A-4C2D-AB7C-6A2AD144B4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E08A1-FD7C-4D6C-82C9-9E9999C403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7027A-7467-451E-BFAE-EC07979E85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5AAE0-24F6-4317-8BD7-42229C32DD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727FE-5631-4CFA-9D8B-CB605B2F02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0AC5C-2D13-4ED1-AA14-65AB9C2CE7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56E4EA-8F8B-4B97-AF27-6F2FE99885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E9B49-D031-4903-8A03-06669506C4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F6B8E-97C2-4FE8-B792-768D35D7A4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73868-E747-451A-B7FC-1ABC077329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6FCE1-61BA-49E9-812F-2A9D09F739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DA66A-DA22-4B69-97C7-A3DE8F9397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BABBF-4F79-485A-8945-A8E76759F1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7FE63-3BDB-49D9-BF7C-5974E6326D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A2496-DCFE-4DE7-849D-8BB66AF091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3F5D5-D6BD-42CC-9D9F-5D05BC8799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116FF-F6C1-4314-B831-757C268452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17B71-B981-48CC-A3A1-229AEB2680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38594-5CD6-4479-BD1E-2C3DC5B9A9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BD2E9-5756-4B62-BA30-AD24E8CAE9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BE858-DBB0-4E55-960E-87F50DDF63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C5F42-A586-4B67-94E4-6CB3482214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79FA2-2553-44B5-B4F9-F913B9FBAA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BAA27-C818-4551-A9E0-7AB886F20C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E9CAD-D860-46D5-B8B9-0B5110D8DC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15BDC-6639-4285-89FC-B305B15205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97CBF-EE7F-4557-9EA9-EBED0026B2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2DA38-19F0-4607-AE2D-2241857CA9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AFA55-87F2-47AD-89DA-FFE8651A7D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088AD-8493-4B05-A235-C48B01F4B2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67076-5D70-4AEC-98E5-12CCBFD7EA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AEBFC-7FB7-4B22-B562-42614AE43E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58040-B338-4A67-9394-4564761018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7EB62-AA72-4C8F-B711-9A5BBFCFAD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95C65-A5B2-487D-84E0-565C34311F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D511F-61E4-4515-8153-8840CC4BD5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8DFEE-0FD3-4C13-90A0-3E42C8A36D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A7305-6E1F-4714-8B79-8BF1A31ECE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6A90E-1D85-4D35-A5F2-0D24006F81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FE216-4114-4000-BECC-0FBA8C3BA4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D8A43-3731-4300-9558-415191A45C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0B3B6-D4DB-45AE-8357-C95BEDB6EC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38D7F-76CF-4DBF-9EE6-BFFDC6CD7F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94F2D-7F50-449E-A40F-F0F70C9FC8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AC137-E5B6-4B50-AF9A-6E72D5BDDE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03268-9E3C-4DC6-9386-0D5684EF59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92B08-2D74-4963-84EC-EA6104FF35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8FB36-3A3F-4906-81A5-1F19DA4BD0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89448-1988-4599-8AA8-55B58E2227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C8422-ED8E-4BB1-B30D-C47B15D47E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7474B-4095-4013-992F-6A2F90F170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7C470-2F8F-4A7F-940C-788B75818D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7B80C-14FA-4DFC-AA69-C89A2A454F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D7CFA-68AD-4FE5-AB1C-3A5C9A7CCD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0C7C2-9260-4913-829B-83F12E874F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3AFFF-B18D-4E63-98AB-96EED19DF4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373CE-D3E2-46FD-89AE-217A4201FE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82540-5585-4223-A476-04EE234B32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7B6AC-C702-4EBE-9781-4F429F7068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82986-A971-40DC-95D1-D174B19F47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57ECB-4F15-49AF-81F6-6566EFA2A2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40DC8-FE88-4E90-B452-0BA4B02DDF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B7209-00CA-496E-9E85-6A3D453E96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5DEAF-8E32-47CC-A1E5-FCB3748037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86800-ACFA-49E2-841E-E9FC4BA033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719AA-2B59-47E6-A84E-E410BA0321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0D096-BAA9-4E71-A80B-B6630E250C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689FC-75E1-488F-B3A0-D3DDBED86A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C66EE-FEBF-47CF-BF2A-2CD60DCB89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F2745-E2A4-4C06-A73E-DE5346A21E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73" name="Group 1"/>
          <p:cNvGrpSpPr/>
          <p:nvPr/>
        </p:nvGrpSpPr>
        <p:grpSpPr>
          <a:xfrm>
            <a:off x="0" y="115920"/>
            <a:ext cx="9140760" cy="6548400"/>
            <a:chOff x="0" y="115920"/>
            <a:chExt cx="9140760" cy="6548400"/>
          </a:xfrm>
        </p:grpSpPr>
        <p:grpSp>
          <p:nvGrpSpPr>
            <p:cNvPr id="6474" name="Group 2"/>
            <p:cNvGrpSpPr/>
            <p:nvPr/>
          </p:nvGrpSpPr>
          <p:grpSpPr>
            <a:xfrm>
              <a:off x="0" y="115920"/>
              <a:ext cx="9140760" cy="6548400"/>
              <a:chOff x="0" y="115920"/>
              <a:chExt cx="9140760" cy="6548400"/>
            </a:xfrm>
          </p:grpSpPr>
          <p:sp>
            <p:nvSpPr>
              <p:cNvPr id="64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8" descr=""/>
          <p:cNvPicPr/>
          <p:nvPr/>
        </p:nvPicPr>
        <p:blipFill>
          <a:blip r:embed="rId3"/>
          <a:stretch/>
        </p:blipFill>
        <p:spPr>
          <a:xfrm>
            <a:off x="250920" y="333360"/>
            <a:ext cx="1417680" cy="879480"/>
          </a:xfrm>
          <a:prstGeom prst="rect">
            <a:avLst/>
          </a:prstGeom>
          <a:ln w="0">
            <a:noFill/>
          </a:ln>
        </p:spPr>
      </p:pic>
      <p:sp>
        <p:nvSpPr>
          <p:cNvPr id="6481" name="Text Box 9"/>
          <p:cNvSpPr/>
          <p:nvPr/>
        </p:nvSpPr>
        <p:spPr>
          <a:xfrm>
            <a:off x="611280" y="1407960"/>
            <a:ext cx="8208720" cy="4402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2" name="Group 1"/>
          <p:cNvGrpSpPr/>
          <p:nvPr/>
        </p:nvGrpSpPr>
        <p:grpSpPr>
          <a:xfrm>
            <a:off x="0" y="115920"/>
            <a:ext cx="9140760" cy="6548400"/>
            <a:chOff x="0" y="115920"/>
            <a:chExt cx="9140760" cy="6548400"/>
          </a:xfrm>
        </p:grpSpPr>
        <p:grpSp>
          <p:nvGrpSpPr>
            <p:cNvPr id="6483" name="Group 2"/>
            <p:cNvGrpSpPr/>
            <p:nvPr/>
          </p:nvGrpSpPr>
          <p:grpSpPr>
            <a:xfrm>
              <a:off x="0" y="115920"/>
              <a:ext cx="9140760" cy="6548400"/>
              <a:chOff x="0" y="115920"/>
              <a:chExt cx="9140760" cy="6548400"/>
            </a:xfrm>
          </p:grpSpPr>
          <p:sp>
            <p:nvSpPr>
              <p:cNvPr id="64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8" descr=""/>
          <p:cNvPicPr/>
          <p:nvPr/>
        </p:nvPicPr>
        <p:blipFill>
          <a:blip r:embed="rId3"/>
          <a:stretch/>
        </p:blipFill>
        <p:spPr>
          <a:xfrm>
            <a:off x="250920" y="333360"/>
            <a:ext cx="1417680" cy="879480"/>
          </a:xfrm>
          <a:prstGeom prst="rect">
            <a:avLst/>
          </a:prstGeom>
          <a:ln w="0">
            <a:noFill/>
          </a:ln>
        </p:spPr>
      </p:pic>
      <p:sp>
        <p:nvSpPr>
          <p:cNvPr id="6490" name="Text Box 9"/>
          <p:cNvSpPr/>
          <p:nvPr/>
        </p:nvSpPr>
        <p:spPr>
          <a:xfrm>
            <a:off x="611280" y="1193760"/>
            <a:ext cx="8208720" cy="4830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611280" y="1469880"/>
            <a:ext cx="8208720" cy="42786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611280" y="1839960"/>
            <a:ext cx="8208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39528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39528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618" name="Picture 2" descr=""/>
          <p:cNvPicPr/>
          <p:nvPr/>
        </p:nvPicPr>
        <p:blipFill>
          <a:blip r:embed="rId1"/>
          <a:stretch/>
        </p:blipFill>
        <p:spPr>
          <a:xfrm>
            <a:off x="0" y="0"/>
            <a:ext cx="9144000" cy="1368360"/>
          </a:xfrm>
          <a:prstGeom prst="rect">
            <a:avLst/>
          </a:prstGeom>
          <a:ln w="0">
            <a:noFill/>
          </a:ln>
        </p:spPr>
      </p:pic>
      <p:pic>
        <p:nvPicPr>
          <p:cNvPr id="6619" name="Picture 3" descr=""/>
          <p:cNvPicPr/>
          <p:nvPr/>
        </p:nvPicPr>
        <p:blipFill>
          <a:blip r:embed="rId2"/>
          <a:stretch/>
        </p:blipFill>
        <p:spPr>
          <a:xfrm>
            <a:off x="1258920" y="2060640"/>
            <a:ext cx="1297080" cy="1528560"/>
          </a:xfrm>
          <a:prstGeom prst="rect">
            <a:avLst/>
          </a:prstGeom>
          <a:ln w="0">
            <a:noFill/>
          </a:ln>
        </p:spPr>
      </p:pic>
      <p:pic>
        <p:nvPicPr>
          <p:cNvPr id="6620" name="Picture 4" descr=""/>
          <p:cNvPicPr/>
          <p:nvPr/>
        </p:nvPicPr>
        <p:blipFill>
          <a:blip r:embed="rId3"/>
          <a:stretch/>
        </p:blipFill>
        <p:spPr>
          <a:xfrm>
            <a:off x="6948360" y="1989000"/>
            <a:ext cx="1444680" cy="1573200"/>
          </a:xfrm>
          <a:prstGeom prst="rect">
            <a:avLst/>
          </a:prstGeom>
          <a:ln w="0">
            <a:noFill/>
          </a:ln>
        </p:spPr>
      </p:pic>
      <p:sp>
        <p:nvSpPr>
          <p:cNvPr id="6621"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62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539640" y="1413000"/>
            <a:ext cx="828036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539640" y="1413000"/>
            <a:ext cx="828036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8" name="Group 1"/>
          <p:cNvGrpSpPr/>
          <p:nvPr/>
        </p:nvGrpSpPr>
        <p:grpSpPr>
          <a:xfrm>
            <a:off x="0" y="115920"/>
            <a:ext cx="9140760" cy="6548400"/>
            <a:chOff x="0" y="115920"/>
            <a:chExt cx="9140760" cy="6548400"/>
          </a:xfrm>
        </p:grpSpPr>
        <p:grpSp>
          <p:nvGrpSpPr>
            <p:cNvPr id="6429" name="Group 2"/>
            <p:cNvGrpSpPr/>
            <p:nvPr/>
          </p:nvGrpSpPr>
          <p:grpSpPr>
            <a:xfrm>
              <a:off x="0" y="115920"/>
              <a:ext cx="9140760" cy="6548400"/>
              <a:chOff x="0" y="115920"/>
              <a:chExt cx="9140760" cy="6548400"/>
            </a:xfrm>
          </p:grpSpPr>
          <p:sp>
            <p:nvSpPr>
              <p:cNvPr id="643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5" name="Picture 8" descr=""/>
          <p:cNvPicPr/>
          <p:nvPr/>
        </p:nvPicPr>
        <p:blipFill>
          <a:blip r:embed="rId3"/>
          <a:stretch/>
        </p:blipFill>
        <p:spPr>
          <a:xfrm>
            <a:off x="250920" y="333360"/>
            <a:ext cx="1417680" cy="879480"/>
          </a:xfrm>
          <a:prstGeom prst="rect">
            <a:avLst/>
          </a:prstGeom>
          <a:ln w="0">
            <a:noFill/>
          </a:ln>
        </p:spPr>
      </p:pic>
      <p:sp>
        <p:nvSpPr>
          <p:cNvPr id="6436" name="Text Box 9"/>
          <p:cNvSpPr/>
          <p:nvPr/>
        </p:nvSpPr>
        <p:spPr>
          <a:xfrm>
            <a:off x="324000" y="2270160"/>
            <a:ext cx="849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7" name="Group 1"/>
          <p:cNvGrpSpPr/>
          <p:nvPr/>
        </p:nvGrpSpPr>
        <p:grpSpPr>
          <a:xfrm>
            <a:off x="0" y="115920"/>
            <a:ext cx="9140760" cy="6548400"/>
            <a:chOff x="0" y="115920"/>
            <a:chExt cx="9140760" cy="6548400"/>
          </a:xfrm>
        </p:grpSpPr>
        <p:grpSp>
          <p:nvGrpSpPr>
            <p:cNvPr id="6438" name="Group 2"/>
            <p:cNvGrpSpPr/>
            <p:nvPr/>
          </p:nvGrpSpPr>
          <p:grpSpPr>
            <a:xfrm>
              <a:off x="0" y="115920"/>
              <a:ext cx="9140760" cy="6548400"/>
              <a:chOff x="0" y="115920"/>
              <a:chExt cx="9140760" cy="6548400"/>
            </a:xfrm>
          </p:grpSpPr>
          <p:sp>
            <p:nvSpPr>
              <p:cNvPr id="64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8" descr=""/>
          <p:cNvPicPr/>
          <p:nvPr/>
        </p:nvPicPr>
        <p:blipFill>
          <a:blip r:embed="rId3"/>
          <a:stretch/>
        </p:blipFill>
        <p:spPr>
          <a:xfrm>
            <a:off x="250920" y="333360"/>
            <a:ext cx="1417680" cy="879480"/>
          </a:xfrm>
          <a:prstGeom prst="rect">
            <a:avLst/>
          </a:prstGeom>
          <a:ln w="0">
            <a:noFill/>
          </a:ln>
        </p:spPr>
      </p:pic>
      <p:sp>
        <p:nvSpPr>
          <p:cNvPr id="6445" name="Text Box 9"/>
          <p:cNvSpPr/>
          <p:nvPr/>
        </p:nvSpPr>
        <p:spPr>
          <a:xfrm>
            <a:off x="324000" y="2270160"/>
            <a:ext cx="849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6" name="Group 1"/>
          <p:cNvGrpSpPr/>
          <p:nvPr/>
        </p:nvGrpSpPr>
        <p:grpSpPr>
          <a:xfrm>
            <a:off x="0" y="115920"/>
            <a:ext cx="9140760" cy="6548400"/>
            <a:chOff x="0" y="115920"/>
            <a:chExt cx="9140760" cy="6548400"/>
          </a:xfrm>
        </p:grpSpPr>
        <p:grpSp>
          <p:nvGrpSpPr>
            <p:cNvPr id="6447" name="Group 2"/>
            <p:cNvGrpSpPr/>
            <p:nvPr/>
          </p:nvGrpSpPr>
          <p:grpSpPr>
            <a:xfrm>
              <a:off x="0" y="115920"/>
              <a:ext cx="9140760" cy="6548400"/>
              <a:chOff x="0" y="115920"/>
              <a:chExt cx="9140760" cy="6548400"/>
            </a:xfrm>
          </p:grpSpPr>
          <p:sp>
            <p:nvSpPr>
              <p:cNvPr id="64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8" descr=""/>
          <p:cNvPicPr/>
          <p:nvPr/>
        </p:nvPicPr>
        <p:blipFill>
          <a:blip r:embed="rId3"/>
          <a:stretch/>
        </p:blipFill>
        <p:spPr>
          <a:xfrm>
            <a:off x="250920" y="333360"/>
            <a:ext cx="1417680" cy="879480"/>
          </a:xfrm>
          <a:prstGeom prst="rect">
            <a:avLst/>
          </a:prstGeom>
          <a:ln w="0">
            <a:noFill/>
          </a:ln>
        </p:spPr>
      </p:pic>
      <p:sp>
        <p:nvSpPr>
          <p:cNvPr id="6454" name="Text Box 9"/>
          <p:cNvSpPr/>
          <p:nvPr/>
        </p:nvSpPr>
        <p:spPr>
          <a:xfrm>
            <a:off x="395280" y="977760"/>
            <a:ext cx="8497800" cy="5262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5" name="Group 1"/>
          <p:cNvGrpSpPr/>
          <p:nvPr/>
        </p:nvGrpSpPr>
        <p:grpSpPr>
          <a:xfrm>
            <a:off x="0" y="115920"/>
            <a:ext cx="9140760" cy="6548400"/>
            <a:chOff x="0" y="115920"/>
            <a:chExt cx="9140760" cy="6548400"/>
          </a:xfrm>
        </p:grpSpPr>
        <p:grpSp>
          <p:nvGrpSpPr>
            <p:cNvPr id="6456" name="Group 2"/>
            <p:cNvGrpSpPr/>
            <p:nvPr/>
          </p:nvGrpSpPr>
          <p:grpSpPr>
            <a:xfrm>
              <a:off x="0" y="115920"/>
              <a:ext cx="9140760" cy="6548400"/>
              <a:chOff x="0" y="115920"/>
              <a:chExt cx="9140760" cy="6548400"/>
            </a:xfrm>
          </p:grpSpPr>
          <p:sp>
            <p:nvSpPr>
              <p:cNvPr id="645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8" descr=""/>
          <p:cNvPicPr/>
          <p:nvPr/>
        </p:nvPicPr>
        <p:blipFill>
          <a:blip r:embed="rId3"/>
          <a:stretch/>
        </p:blipFill>
        <p:spPr>
          <a:xfrm>
            <a:off x="250920" y="333360"/>
            <a:ext cx="1417680" cy="879480"/>
          </a:xfrm>
          <a:prstGeom prst="rect">
            <a:avLst/>
          </a:prstGeom>
          <a:ln w="0">
            <a:noFill/>
          </a:ln>
        </p:spPr>
      </p:pic>
      <p:sp>
        <p:nvSpPr>
          <p:cNvPr id="6463" name="Text Box 9"/>
          <p:cNvSpPr/>
          <p:nvPr/>
        </p:nvSpPr>
        <p:spPr>
          <a:xfrm>
            <a:off x="250920" y="1407960"/>
            <a:ext cx="8569080" cy="4402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4" name="Group 1"/>
          <p:cNvGrpSpPr/>
          <p:nvPr/>
        </p:nvGrpSpPr>
        <p:grpSpPr>
          <a:xfrm>
            <a:off x="0" y="115920"/>
            <a:ext cx="9140760" cy="6548400"/>
            <a:chOff x="0" y="115920"/>
            <a:chExt cx="9140760" cy="6548400"/>
          </a:xfrm>
        </p:grpSpPr>
        <p:grpSp>
          <p:nvGrpSpPr>
            <p:cNvPr id="6465" name="Group 2"/>
            <p:cNvGrpSpPr/>
            <p:nvPr/>
          </p:nvGrpSpPr>
          <p:grpSpPr>
            <a:xfrm>
              <a:off x="0" y="115920"/>
              <a:ext cx="9140760" cy="6548400"/>
              <a:chOff x="0" y="115920"/>
              <a:chExt cx="9140760" cy="6548400"/>
            </a:xfrm>
          </p:grpSpPr>
          <p:sp>
            <p:nvSpPr>
              <p:cNvPr id="646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8" descr=""/>
          <p:cNvPicPr/>
          <p:nvPr/>
        </p:nvPicPr>
        <p:blipFill>
          <a:blip r:embed="rId3"/>
          <a:stretch/>
        </p:blipFill>
        <p:spPr>
          <a:xfrm>
            <a:off x="250920" y="333360"/>
            <a:ext cx="1417680" cy="879480"/>
          </a:xfrm>
          <a:prstGeom prst="rect">
            <a:avLst/>
          </a:prstGeom>
          <a:ln w="0">
            <a:noFill/>
          </a:ln>
        </p:spPr>
      </p:pic>
      <p:sp>
        <p:nvSpPr>
          <p:cNvPr id="6472" name="Text Box 9"/>
          <p:cNvSpPr/>
          <p:nvPr/>
        </p:nvSpPr>
        <p:spPr>
          <a:xfrm>
            <a:off x="611280" y="2054160"/>
            <a:ext cx="820872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7:07Z</dcterms:modified>
  <cp:revision>1</cp:revision>
  <dc:subject/>
  <dc:title/>
</cp:coreProperties>
</file>